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move the slid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2EA1-36D0-469A-9A97-063242851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some choi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ould you use this? Between ISPs? At ed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59CF1-6A2B-47CD-87FC-7BFC8062D3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419904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89B76-A9BC-4F35-9B5E-62391EAC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3220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DF125-C001-4415-884E-86796946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0408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4640" y="160020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0408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4640" y="4199040"/>
            <a:ext cx="263844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62111-3432-4081-BB03-1BBE1FB8EE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63914-FCAF-4F18-AB3E-21740D39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59C07-2416-4280-A38B-CCBF839D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586FD-C752-41E6-AF56-128F8B56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330F0-AF0D-436E-A1CD-F5B5D8E3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DA2A7-0378-4180-BD26-95D17931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416F2-8930-4C22-93CC-746C13B5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32200" y="419904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D5261-5B1F-44F4-AC1D-E3A57BDD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2200" y="1600200"/>
            <a:ext cx="39988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4199040"/>
            <a:ext cx="81946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4C67-E9C6-47BA-8ABE-9361A0FB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0F41-1B57-4676-9131-0FDA2B3FF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Routing (cont.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FBEB0-F7BF-49CC-AE6C-FD8DF569ED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1219320"/>
            <a:ext cx="42670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looking at RIP/OSPF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-hosts connected to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s exchange messages to determine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TRU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1981080"/>
            <a:ext cx="4038840" cy="381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562720" y="3048120"/>
            <a:ext cx="2209680" cy="1676160"/>
            <a:chOff x="5562720" y="3048120"/>
            <a:chExt cx="2209680" cy="1676160"/>
          </a:xfrm>
        </p:grpSpPr>
        <p:sp>
          <p:nvSpPr>
            <p:cNvPr id="69" name=""/>
            <p:cNvSpPr/>
            <p:nvPr/>
          </p:nvSpPr>
          <p:spPr>
            <a:xfrm>
              <a:off x="5562720" y="3434760"/>
              <a:ext cx="95544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20920" y="3048120"/>
              <a:ext cx="113472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38880" y="3176640"/>
              <a:ext cx="11941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37680" y="3628080"/>
              <a:ext cx="11347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19720" y="3950640"/>
              <a:ext cx="1014840" cy="773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82240" y="3756960"/>
              <a:ext cx="1014840" cy="709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505560" y="3220920"/>
            <a:ext cx="266760" cy="26856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6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2612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05560" y="43480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85000" y="2514600"/>
            <a:ext cx="26640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0556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78800" y="4986360"/>
            <a:ext cx="26640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043520"/>
            <a:ext cx="268200" cy="269640"/>
          </a:xfrm>
          <a:custGeom>
            <a:avLst/>
            <a:gdLst/>
            <a:ahLst/>
            <a:rect l="l" t="t" r="r" b="b"/>
            <a:pathLst>
              <a:path w="169" h="170">
                <a:moveTo>
                  <a:pt x="0" y="168"/>
                </a:moveTo>
                <a:lnTo>
                  <a:pt x="169" y="170"/>
                </a:lnTo>
                <a:lnTo>
                  <a:pt x="169" y="0"/>
                </a:lnTo>
                <a:lnTo>
                  <a:pt x="0" y="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3522600"/>
            <a:ext cx="268200" cy="26676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168"/>
                </a:moveTo>
                <a:lnTo>
                  <a:pt x="169" y="168"/>
                </a:lnTo>
                <a:lnTo>
                  <a:pt x="169" y="0"/>
                </a:lnTo>
                <a:lnTo>
                  <a:pt x="0" y="0"/>
                </a:lnTo>
                <a:lnTo>
                  <a:pt x="0" y="168"/>
                </a:lnTo>
                <a:lnTo>
                  <a:pt x="0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4524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8964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6760" y="2782800"/>
            <a:ext cx="43164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727320" y="2782800"/>
            <a:ext cx="4302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011640" y="3352680"/>
            <a:ext cx="493560" cy="49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2000" y="3914640"/>
            <a:ext cx="4935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72320" y="3914640"/>
            <a:ext cx="5126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775560" y="3956040"/>
            <a:ext cx="514080" cy="515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78360"/>
            <a:ext cx="49356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730560" y="4614480"/>
            <a:ext cx="17964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73720" y="3654360"/>
            <a:ext cx="368280" cy="176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373720" y="4005360"/>
            <a:ext cx="371520" cy="172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0" y="3914640"/>
            <a:ext cx="50976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3772080"/>
            <a:ext cx="266760" cy="26640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8920" y="316080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1680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8920" y="428148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7892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4104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Click To Preview"/>
          <p:cNvPicPr/>
          <p:nvPr/>
        </p:nvPicPr>
        <p:blipFill>
          <a:blip r:embed="rId1"/>
          <a:stretch/>
        </p:blipFill>
        <p:spPr>
          <a:xfrm>
            <a:off x="6934320" y="2286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Click To Preview"/>
          <p:cNvPicPr/>
          <p:nvPr/>
        </p:nvPicPr>
        <p:blipFill>
          <a:blip r:embed="rId2"/>
          <a:stretch/>
        </p:blipFill>
        <p:spPr>
          <a:xfrm>
            <a:off x="5867280" y="2286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Click To Preview"/>
          <p:cNvPicPr/>
          <p:nvPr/>
        </p:nvPicPr>
        <p:blipFill>
          <a:blip r:embed="rId3"/>
          <a:stretch/>
        </p:blipFill>
        <p:spPr>
          <a:xfrm>
            <a:off x="7848720" y="3581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Click To Preview"/>
          <p:cNvPicPr/>
          <p:nvPr/>
        </p:nvPicPr>
        <p:blipFill>
          <a:blip r:embed="rId4"/>
          <a:stretch/>
        </p:blipFill>
        <p:spPr>
          <a:xfrm>
            <a:off x="4876920" y="3276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Click To Preview"/>
          <p:cNvPicPr/>
          <p:nvPr/>
        </p:nvPicPr>
        <p:blipFill>
          <a:blip r:embed="rId5"/>
          <a:stretch/>
        </p:blipFill>
        <p:spPr>
          <a:xfrm>
            <a:off x="487692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Click To Preview"/>
          <p:cNvPicPr/>
          <p:nvPr/>
        </p:nvPicPr>
        <p:blipFill>
          <a:blip r:embed="rId6"/>
          <a:stretch/>
        </p:blipFill>
        <p:spPr>
          <a:xfrm>
            <a:off x="6629400" y="4876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6D7C3-2120-4095-95A5-B774F31337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114800" y="1905120"/>
            <a:ext cx="464832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3048120"/>
            <a:ext cx="2209680" cy="1676160"/>
            <a:chOff x="5638680" y="3048120"/>
            <a:chExt cx="2209680" cy="1676160"/>
          </a:xfrm>
        </p:grpSpPr>
        <p:sp>
          <p:nvSpPr>
            <p:cNvPr id="110" name=""/>
            <p:cNvSpPr/>
            <p:nvPr/>
          </p:nvSpPr>
          <p:spPr>
            <a:xfrm>
              <a:off x="5638680" y="3434760"/>
              <a:ext cx="95544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96880" y="3048120"/>
              <a:ext cx="1134720" cy="644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15200" y="3176640"/>
              <a:ext cx="119448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13640" y="3628080"/>
              <a:ext cx="1134720" cy="8380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95680" y="3950640"/>
              <a:ext cx="1015200" cy="773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58200" y="3756960"/>
              <a:ext cx="1015200" cy="709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581880" y="3220920"/>
            <a:ext cx="266760" cy="26856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6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0244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81880" y="43480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60960" y="2514600"/>
            <a:ext cx="266760" cy="268200"/>
          </a:xfrm>
          <a:custGeom>
            <a:avLst/>
            <a:gdLst/>
            <a:ahLst/>
            <a:rect l="l" t="t" r="r" b="b"/>
            <a:pathLst>
              <a:path w="168" h="169">
                <a:moveTo>
                  <a:pt x="168" y="169"/>
                </a:moveTo>
                <a:lnTo>
                  <a:pt x="168" y="0"/>
                </a:lnTo>
                <a:lnTo>
                  <a:pt x="0" y="0"/>
                </a:lnTo>
                <a:lnTo>
                  <a:pt x="0" y="169"/>
                </a:lnTo>
                <a:lnTo>
                  <a:pt x="168" y="169"/>
                </a:lnTo>
                <a:lnTo>
                  <a:pt x="168" y="169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8188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4760" y="498636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043520"/>
            <a:ext cx="268560" cy="269640"/>
          </a:xfrm>
          <a:custGeom>
            <a:avLst/>
            <a:gdLst/>
            <a:ahLst/>
            <a:rect l="l" t="t" r="r" b="b"/>
            <a:pathLst>
              <a:path w="169" h="170">
                <a:moveTo>
                  <a:pt x="0" y="168"/>
                </a:moveTo>
                <a:lnTo>
                  <a:pt x="169" y="170"/>
                </a:lnTo>
                <a:lnTo>
                  <a:pt x="169" y="0"/>
                </a:lnTo>
                <a:lnTo>
                  <a:pt x="0" y="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3522600"/>
            <a:ext cx="268560" cy="266760"/>
          </a:xfrm>
          <a:custGeom>
            <a:avLst/>
            <a:gdLst/>
            <a:ahLst/>
            <a:rect l="l" t="t" r="r" b="b"/>
            <a:pathLst>
              <a:path w="169" h="168">
                <a:moveTo>
                  <a:pt x="0" y="168"/>
                </a:moveTo>
                <a:lnTo>
                  <a:pt x="169" y="168"/>
                </a:lnTo>
                <a:lnTo>
                  <a:pt x="169" y="0"/>
                </a:lnTo>
                <a:lnTo>
                  <a:pt x="0" y="0"/>
                </a:lnTo>
                <a:lnTo>
                  <a:pt x="0" y="168"/>
                </a:lnTo>
                <a:lnTo>
                  <a:pt x="0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2120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65960" y="3782880"/>
            <a:ext cx="266760" cy="26676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0000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92720" y="2782800"/>
            <a:ext cx="4320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803640" y="2782800"/>
            <a:ext cx="430200" cy="438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087960" y="3352680"/>
            <a:ext cx="493920" cy="493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87960" y="3914640"/>
            <a:ext cx="49392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8640" y="3914640"/>
            <a:ext cx="51264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851160" y="3956040"/>
            <a:ext cx="514440" cy="5158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87960" y="3978360"/>
            <a:ext cx="493920" cy="493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807240" y="4614480"/>
            <a:ext cx="179280" cy="3682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50040" y="3654360"/>
            <a:ext cx="368280" cy="176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50040" y="4005360"/>
            <a:ext cx="371160" cy="172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32720" y="3914640"/>
            <a:ext cx="509400" cy="3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3772080"/>
            <a:ext cx="266760" cy="266400"/>
          </a:xfrm>
          <a:custGeom>
            <a:avLst/>
            <a:gdLst/>
            <a:ahLst/>
            <a:rect l="l" t="t" r="r" b="b"/>
            <a:pathLst>
              <a:path w="168" h="168">
                <a:moveTo>
                  <a:pt x="168" y="168"/>
                </a:moveTo>
                <a:lnTo>
                  <a:pt x="168" y="0"/>
                </a:lnTo>
                <a:lnTo>
                  <a:pt x="0" y="0"/>
                </a:lnTo>
                <a:lnTo>
                  <a:pt x="0" y="168"/>
                </a:lnTo>
                <a:lnTo>
                  <a:pt x="168" y="168"/>
                </a:lnTo>
                <a:lnTo>
                  <a:pt x="168" y="168"/>
                </a:lnTo>
              </a:path>
            </a:pathLst>
          </a:custGeom>
          <a:solidFill>
            <a:srgbClr val="b2b2b2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555240" y="316080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9312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55240" y="428148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524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7000" y="3733920"/>
            <a:ext cx="345240" cy="3682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Click To Preview"/>
          <p:cNvPicPr/>
          <p:nvPr/>
        </p:nvPicPr>
        <p:blipFill>
          <a:blip r:embed="rId1"/>
          <a:stretch/>
        </p:blipFill>
        <p:spPr>
          <a:xfrm>
            <a:off x="5334120" y="495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H="1">
            <a:off x="5257800" y="2743200"/>
            <a:ext cx="457200" cy="6094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1000" y="2819520"/>
            <a:ext cx="304920" cy="99036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391520" y="4191120"/>
            <a:ext cx="838080" cy="9144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858000" y="2209680"/>
            <a:ext cx="1599840" cy="838440"/>
            <a:chOff x="6858000" y="2209680"/>
            <a:chExt cx="1599840" cy="838440"/>
          </a:xfrm>
        </p:grpSpPr>
        <p:sp>
          <p:nvSpPr>
            <p:cNvPr id="148" name=""/>
            <p:cNvSpPr/>
            <p:nvPr/>
          </p:nvSpPr>
          <p:spPr>
            <a:xfrm>
              <a:off x="6858000" y="2403000"/>
              <a:ext cx="691920" cy="322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17200" y="2209680"/>
              <a:ext cx="821520" cy="3225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20320" y="2274120"/>
              <a:ext cx="864720" cy="419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36320" y="2499840"/>
              <a:ext cx="821520" cy="4194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33560" y="2661120"/>
              <a:ext cx="735120" cy="3870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44400" y="256428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876920" y="3962520"/>
            <a:ext cx="914040" cy="609120"/>
            <a:chOff x="4876920" y="3962520"/>
            <a:chExt cx="914040" cy="609120"/>
          </a:xfrm>
        </p:grpSpPr>
        <p:sp>
          <p:nvSpPr>
            <p:cNvPr id="155" name=""/>
            <p:cNvSpPr/>
            <p:nvPr/>
          </p:nvSpPr>
          <p:spPr>
            <a:xfrm>
              <a:off x="4876920" y="4102920"/>
              <a:ext cx="39528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24880" y="3962520"/>
              <a:ext cx="46944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8040" y="4009320"/>
              <a:ext cx="49428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21520" y="4173480"/>
              <a:ext cx="4694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48720" y="4290480"/>
              <a:ext cx="4201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26240" y="4220280"/>
              <a:ext cx="4201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876920" y="3276720"/>
            <a:ext cx="761760" cy="609120"/>
            <a:chOff x="4876920" y="3276720"/>
            <a:chExt cx="761760" cy="609120"/>
          </a:xfrm>
        </p:grpSpPr>
        <p:sp>
          <p:nvSpPr>
            <p:cNvPr id="162" name=""/>
            <p:cNvSpPr/>
            <p:nvPr/>
          </p:nvSpPr>
          <p:spPr>
            <a:xfrm>
              <a:off x="4876920" y="3417120"/>
              <a:ext cx="32940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00400" y="3276720"/>
              <a:ext cx="39132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44400" y="3323520"/>
              <a:ext cx="4118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47360" y="3487680"/>
              <a:ext cx="39132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3360" y="3604680"/>
              <a:ext cx="3499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17960" y="3534480"/>
              <a:ext cx="3499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 flipH="1">
            <a:off x="5943600" y="5257800"/>
            <a:ext cx="38088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876920" y="2590920"/>
            <a:ext cx="457200" cy="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Click To Preview"/>
          <p:cNvPicPr/>
          <p:nvPr/>
        </p:nvPicPr>
        <p:blipFill>
          <a:blip r:embed="rId2"/>
          <a:stretch/>
        </p:blipFill>
        <p:spPr>
          <a:xfrm>
            <a:off x="4343400" y="2362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Click To Preview"/>
          <p:cNvPicPr/>
          <p:nvPr/>
        </p:nvPicPr>
        <p:blipFill>
          <a:blip r:embed="rId3"/>
          <a:stretch/>
        </p:blipFill>
        <p:spPr>
          <a:xfrm>
            <a:off x="8077320" y="44956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534520" y="40384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181480" y="2133720"/>
            <a:ext cx="1599840" cy="837720"/>
            <a:chOff x="5181480" y="2133720"/>
            <a:chExt cx="1599840" cy="837720"/>
          </a:xfrm>
        </p:grpSpPr>
        <p:sp>
          <p:nvSpPr>
            <p:cNvPr id="174" name=""/>
            <p:cNvSpPr/>
            <p:nvPr/>
          </p:nvSpPr>
          <p:spPr>
            <a:xfrm>
              <a:off x="5181480" y="2327040"/>
              <a:ext cx="6919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40680" y="2133720"/>
              <a:ext cx="8215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43800" y="2197800"/>
              <a:ext cx="8647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9800" y="2423880"/>
              <a:ext cx="8215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57040" y="2584800"/>
              <a:ext cx="735120" cy="386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67880" y="248832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172200" y="4800600"/>
            <a:ext cx="1599840" cy="837720"/>
            <a:chOff x="6172200" y="4800600"/>
            <a:chExt cx="1599840" cy="837720"/>
          </a:xfrm>
        </p:grpSpPr>
        <p:sp>
          <p:nvSpPr>
            <p:cNvPr id="181" name=""/>
            <p:cNvSpPr/>
            <p:nvPr/>
          </p:nvSpPr>
          <p:spPr>
            <a:xfrm>
              <a:off x="6172200" y="4993920"/>
              <a:ext cx="6919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31400" y="4800600"/>
              <a:ext cx="821520" cy="322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4520" y="4864680"/>
              <a:ext cx="8647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50520" y="5090760"/>
              <a:ext cx="82152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47760" y="5251680"/>
              <a:ext cx="735120" cy="386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58600" y="5155200"/>
              <a:ext cx="735120" cy="354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924680" y="3657600"/>
            <a:ext cx="762120" cy="609120"/>
            <a:chOff x="7924680" y="3657600"/>
            <a:chExt cx="762120" cy="609120"/>
          </a:xfrm>
        </p:grpSpPr>
        <p:sp>
          <p:nvSpPr>
            <p:cNvPr id="188" name=""/>
            <p:cNvSpPr/>
            <p:nvPr/>
          </p:nvSpPr>
          <p:spPr>
            <a:xfrm>
              <a:off x="7924680" y="3798000"/>
              <a:ext cx="32940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48160" y="3657600"/>
              <a:ext cx="391320" cy="234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192520" y="3704400"/>
              <a:ext cx="41184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95480" y="3868560"/>
              <a:ext cx="391320" cy="3049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51120" y="3985560"/>
              <a:ext cx="349920" cy="281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65720" y="3915360"/>
              <a:ext cx="349920" cy="2577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?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352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P/OSPF not very scalab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a hierarch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, ISP’s aren’t equ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necti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TRUE EITH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5640840" y="2286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77840" y="23623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6825F-E44D-4886-9E9F-3FB6DB16D4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A Logical View of the Interne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2084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1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-free” with global reachability inf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2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ional or country-w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r 3 IS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4648320" y="1447920"/>
            <a:ext cx="403848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952880" y="3962520"/>
            <a:ext cx="1523880" cy="990360"/>
            <a:chOff x="4952880" y="3962520"/>
            <a:chExt cx="1523880" cy="990360"/>
          </a:xfrm>
        </p:grpSpPr>
        <p:sp>
          <p:nvSpPr>
            <p:cNvPr id="202" name=""/>
            <p:cNvSpPr/>
            <p:nvPr/>
          </p:nvSpPr>
          <p:spPr>
            <a:xfrm>
              <a:off x="4952880" y="4191120"/>
              <a:ext cx="65916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99840" y="3962520"/>
              <a:ext cx="7826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88200" y="4038480"/>
              <a:ext cx="82368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94120" y="4305240"/>
              <a:ext cx="78264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06120" y="4495680"/>
              <a:ext cx="70020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35320" y="4381560"/>
              <a:ext cx="70020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257800" y="2362320"/>
            <a:ext cx="914040" cy="609120"/>
            <a:chOff x="5257800" y="2362320"/>
            <a:chExt cx="914040" cy="609120"/>
          </a:xfrm>
        </p:grpSpPr>
        <p:sp>
          <p:nvSpPr>
            <p:cNvPr id="209" name=""/>
            <p:cNvSpPr/>
            <p:nvPr/>
          </p:nvSpPr>
          <p:spPr>
            <a:xfrm>
              <a:off x="5257800" y="2502720"/>
              <a:ext cx="395280" cy="234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05760" y="2362320"/>
              <a:ext cx="469440" cy="2343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78920" y="2409120"/>
              <a:ext cx="494280" cy="3049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02400" y="2573280"/>
              <a:ext cx="469440" cy="3049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29600" y="2690280"/>
              <a:ext cx="420120" cy="2811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07120" y="2620080"/>
              <a:ext cx="420120" cy="25776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781680" y="3962520"/>
            <a:ext cx="1523880" cy="990360"/>
            <a:chOff x="6781680" y="3962520"/>
            <a:chExt cx="1523880" cy="990360"/>
          </a:xfrm>
        </p:grpSpPr>
        <p:sp>
          <p:nvSpPr>
            <p:cNvPr id="216" name=""/>
            <p:cNvSpPr/>
            <p:nvPr/>
          </p:nvSpPr>
          <p:spPr>
            <a:xfrm>
              <a:off x="6781680" y="4191120"/>
              <a:ext cx="65916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28640" y="3962520"/>
              <a:ext cx="7826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17000" y="4038480"/>
              <a:ext cx="82368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2920" y="4305240"/>
              <a:ext cx="78264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34920" y="4495680"/>
              <a:ext cx="70020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64120" y="4381560"/>
              <a:ext cx="70020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095880" y="5105520"/>
            <a:ext cx="1371240" cy="685800"/>
            <a:chOff x="6095880" y="5105520"/>
            <a:chExt cx="1371240" cy="685800"/>
          </a:xfrm>
        </p:grpSpPr>
        <p:sp>
          <p:nvSpPr>
            <p:cNvPr id="223" name=""/>
            <p:cNvSpPr/>
            <p:nvPr/>
          </p:nvSpPr>
          <p:spPr>
            <a:xfrm>
              <a:off x="6095880" y="526356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18000" y="510552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77560" y="515808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62960" y="534276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03760" y="547488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0040" y="539568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952880" y="3200400"/>
            <a:ext cx="1371240" cy="685800"/>
            <a:chOff x="4952880" y="3200400"/>
            <a:chExt cx="1371240" cy="685800"/>
          </a:xfrm>
        </p:grpSpPr>
        <p:sp>
          <p:nvSpPr>
            <p:cNvPr id="230" name=""/>
            <p:cNvSpPr/>
            <p:nvPr/>
          </p:nvSpPr>
          <p:spPr>
            <a:xfrm>
              <a:off x="4952880" y="335844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75000" y="320040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34560" y="325296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19960" y="343764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60760" y="356976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027040" y="349056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6934320" y="2743200"/>
            <a:ext cx="1371240" cy="685800"/>
            <a:chOff x="6934320" y="2743200"/>
            <a:chExt cx="1371240" cy="685800"/>
          </a:xfrm>
        </p:grpSpPr>
        <p:sp>
          <p:nvSpPr>
            <p:cNvPr id="237" name=""/>
            <p:cNvSpPr/>
            <p:nvPr/>
          </p:nvSpPr>
          <p:spPr>
            <a:xfrm>
              <a:off x="6934320" y="290124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56440" y="274320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16000" y="279576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01400" y="298044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42200" y="311256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08480" y="303336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5154840" y="41911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09280" y="419112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85960" y="28954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76160" y="33526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19160" y="525780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82000" y="246384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Click To Preview"/>
          <p:cNvPicPr/>
          <p:nvPr/>
        </p:nvPicPr>
        <p:blipFill>
          <a:blip r:embed="rId1"/>
          <a:stretch/>
        </p:blipFill>
        <p:spPr>
          <a:xfrm>
            <a:off x="5334120" y="1600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Click To Preview"/>
          <p:cNvPicPr/>
          <p:nvPr/>
        </p:nvPicPr>
        <p:blipFill>
          <a:blip r:embed="rId2"/>
          <a:stretch/>
        </p:blipFill>
        <p:spPr>
          <a:xfrm>
            <a:off x="7391520" y="1600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715000" y="4952880"/>
            <a:ext cx="60948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162560" y="4952880"/>
            <a:ext cx="22860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620120" y="3429000"/>
            <a:ext cx="75960" cy="60948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095520" y="2133720"/>
            <a:ext cx="1295640" cy="4572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2971800"/>
            <a:ext cx="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2209680"/>
            <a:ext cx="76320" cy="60984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38680" y="3809880"/>
            <a:ext cx="0" cy="15264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5638680" y="2133360"/>
            <a:ext cx="76320" cy="228600"/>
          </a:xfrm>
          <a:prstGeom prst="line">
            <a:avLst/>
          </a:prstGeom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57360" y="350532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36480" y="396252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7D0A4-1380-4377-806C-FB4599E76D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09480" y="1600200"/>
            <a:ext cx="77724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ransit vs. Peer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962520" y="3809880"/>
            <a:ext cx="1752480" cy="990720"/>
            <a:chOff x="3962520" y="3809880"/>
            <a:chExt cx="1752480" cy="990720"/>
          </a:xfrm>
        </p:grpSpPr>
        <p:sp>
          <p:nvSpPr>
            <p:cNvPr id="265" name=""/>
            <p:cNvSpPr/>
            <p:nvPr/>
          </p:nvSpPr>
          <p:spPr>
            <a:xfrm>
              <a:off x="3962520" y="4038480"/>
              <a:ext cx="75780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46560" y="3809880"/>
              <a:ext cx="90000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8120" y="3885840"/>
              <a:ext cx="94716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15000" y="4152600"/>
              <a:ext cx="900000" cy="495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83440" y="4343400"/>
              <a:ext cx="804960" cy="4572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7200" y="4228920"/>
              <a:ext cx="804960" cy="4190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447920" y="3809880"/>
            <a:ext cx="1371240" cy="685800"/>
            <a:chOff x="1447920" y="3809880"/>
            <a:chExt cx="1371240" cy="685800"/>
          </a:xfrm>
        </p:grpSpPr>
        <p:sp>
          <p:nvSpPr>
            <p:cNvPr id="272" name=""/>
            <p:cNvSpPr/>
            <p:nvPr/>
          </p:nvSpPr>
          <p:spPr>
            <a:xfrm>
              <a:off x="1447920" y="396792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70040" y="380988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29600" y="386244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15000" y="404712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855800" y="417924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22080" y="410004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858000" y="2133720"/>
            <a:ext cx="1371240" cy="685800"/>
            <a:chOff x="6858000" y="2133720"/>
            <a:chExt cx="1371240" cy="685800"/>
          </a:xfrm>
        </p:grpSpPr>
        <p:sp>
          <p:nvSpPr>
            <p:cNvPr id="279" name=""/>
            <p:cNvSpPr/>
            <p:nvPr/>
          </p:nvSpPr>
          <p:spPr>
            <a:xfrm>
              <a:off x="6858000" y="2291760"/>
              <a:ext cx="59292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80120" y="2133720"/>
              <a:ext cx="704160" cy="263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39680" y="2186280"/>
              <a:ext cx="74124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25080" y="2370960"/>
              <a:ext cx="704160" cy="34272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65880" y="2503080"/>
              <a:ext cx="630000" cy="3164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32160" y="2423880"/>
              <a:ext cx="630000" cy="29016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4394520" y="40384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08920" y="228600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785600" y="3962520"/>
            <a:ext cx="7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Click To Preview"/>
          <p:cNvPicPr/>
          <p:nvPr/>
        </p:nvPicPr>
        <p:blipFill>
          <a:blip r:embed="rId1"/>
          <a:stretch/>
        </p:blipFill>
        <p:spPr>
          <a:xfrm>
            <a:off x="1752480" y="52578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Click To Preview"/>
          <p:cNvPicPr/>
          <p:nvPr/>
        </p:nvPicPr>
        <p:blipFill>
          <a:blip r:embed="rId2"/>
          <a:stretch/>
        </p:blipFill>
        <p:spPr>
          <a:xfrm>
            <a:off x="7238880" y="3505320"/>
            <a:ext cx="609840" cy="60948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3429000" y="1828800"/>
            <a:ext cx="2514600" cy="1523520"/>
            <a:chOff x="3429000" y="1828800"/>
            <a:chExt cx="2514600" cy="1523520"/>
          </a:xfrm>
        </p:grpSpPr>
        <p:sp>
          <p:nvSpPr>
            <p:cNvPr id="291" name=""/>
            <p:cNvSpPr/>
            <p:nvPr/>
          </p:nvSpPr>
          <p:spPr>
            <a:xfrm>
              <a:off x="3429000" y="2180160"/>
              <a:ext cx="1087200" cy="586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36520" y="1828800"/>
              <a:ext cx="1291320" cy="586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12440" y="1945800"/>
              <a:ext cx="1359000" cy="7621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52280" y="2356200"/>
              <a:ext cx="1291320" cy="7621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76720" y="2649240"/>
              <a:ext cx="1154880" cy="7030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65080" y="2473200"/>
              <a:ext cx="1154880" cy="64476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162320" y="22860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Click To Preview"/>
          <p:cNvPicPr/>
          <p:nvPr/>
        </p:nvPicPr>
        <p:blipFill>
          <a:blip r:embed="rId3"/>
          <a:stretch/>
        </p:blipFill>
        <p:spPr>
          <a:xfrm>
            <a:off x="1752480" y="2133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Click To Preview"/>
          <p:cNvPicPr/>
          <p:nvPr/>
        </p:nvPicPr>
        <p:blipFill>
          <a:blip r:embed="rId4"/>
          <a:stretch/>
        </p:blipFill>
        <p:spPr>
          <a:xfrm>
            <a:off x="3962520" y="5257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Click To Preview"/>
          <p:cNvPicPr/>
          <p:nvPr/>
        </p:nvPicPr>
        <p:blipFill>
          <a:blip r:embed="rId5"/>
          <a:stretch/>
        </p:blipFill>
        <p:spPr>
          <a:xfrm>
            <a:off x="5257800" y="52578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133720" y="4495680"/>
            <a:ext cx="0" cy="76212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133720" y="2971800"/>
            <a:ext cx="1295280" cy="76212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4724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1843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 1/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48769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43400" y="480060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480060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895480" y="4267080"/>
            <a:ext cx="99072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96252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800" y="28954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2361960" y="2362320"/>
            <a:ext cx="99036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5790960" y="2362320"/>
            <a:ext cx="990360" cy="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62720" y="1981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48520" y="2895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4815000"/>
            <a:ext cx="20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1260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34290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ransit ($$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5430-1CA4-47FF-9EC9-C199200B88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BCDEE-92C1-4E69-B15E-157E6AB6E3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oi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k state or distance vecto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universal metric – policy deci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distance-vecto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llman-Ford algorithm may not conver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s with link sta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 used by routers not the same –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S database too large – entire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expose policies to other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7D7D2-893B-4C5A-96D9-C1BACB868C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olution: Distance Vector with Pat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routing update carries the entire pa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ops are detected as follow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AS gets route check if AS already in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es, reject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o, add self and (possibly) advertise route fur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s are local - AS chooses path, protocol ensures no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74EB4-90C6-4ED6-B81A-A4A1C2F7FD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connecting BGP Pe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uses TCP to connect pe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ifies B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need for periodic refresh - routes are valid until withdrawn, or the connection is lo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mental upd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gestion control on a routing protoco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or interaction during high 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9465C-463A-4634-A9E3-1FD885267D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op-by-hop Model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advertises to neighbors only those routes that it u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stent with the hop-by-hop Internet paradig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AS1 cannot tell AS2 to route to other AS’s in a manner different than what AS2 has chos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DCF71-2852-44A3-9F97-9414E249F0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olicy with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provides capability for enforcing various poli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icies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t of BGP: they are provided to BGP as configuration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enforces policies by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hoosing paths from multiple alternativ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ontrolling advertisement to other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049CF-75B0-465F-8E8E-759F2BBEA5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18FEE-74C2-40E8-AA46-C4C88D12C2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xamples of BGP Polici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ti-homed AS refuses to act as tran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 path advertis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multi-homed AS can become transit for some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advertise paths to some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AS can favor or disfavor certain AS’s for traffic transit from itsel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182E4-8111-4462-B45A-17EA3F47AF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80880" y="1600200"/>
            <a:ext cx="8382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Common Head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1219320" y="2590920"/>
            <a:ext cx="68580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3809880"/>
            <a:ext cx="3276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 (2 by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5680" y="3809880"/>
            <a:ext cx="2057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 (1 by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956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432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37600" y="2173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0136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5384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1124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413440" y="2894040"/>
            <a:ext cx="538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r (security and message deline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53120" y="5027760"/>
            <a:ext cx="77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: OPEN, UPDATE, NOTIFICATION, KEEP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69682-2AEE-4CB1-BA42-DDF8CD25F8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Messag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nounces AS 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es hold tim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val between keep_alive or update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zero interval implies no keep_al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_al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periodically to ensure connectiv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 in place of an UPDATE mes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for error no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oses TCP connection immediately after notif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14A9-3A6F-4A5D-BA19-05F5BACECF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UPDATE Messag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of withdrawn ro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 layer reachability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of reachable prefix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r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prefixes advertised in message have same 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0B8FA-004B-4B17-8535-333040F745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ath Selection Criteri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ormation based on path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ibutes + external (policy)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licy consider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ference for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ence or absence of certain 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orig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dynam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DA0F7-A2EA-4C2B-BD79-B6A2ACC092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OCAL PREF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194680" cy="53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cal (within an AS) mechanism to provide relative priority among BGP rou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1066320" y="2285640"/>
            <a:ext cx="70866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81080" y="2895480"/>
            <a:ext cx="11430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48520" y="2895480"/>
            <a:ext cx="1143000" cy="8384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38480" y="251460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57400" y="4724280"/>
            <a:ext cx="5334120" cy="1295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2320" y="31240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29400" y="31240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62320" y="51055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9400" y="51055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2819160" y="5410080"/>
            <a:ext cx="373356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2742840" y="53341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81840" y="53481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I-BG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066040" y="5764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25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01840" y="3478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14760" y="510552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cal Pref = 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46080" y="5105520"/>
            <a:ext cx="12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ocal Pref =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34400" y="347832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419720" y="26668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18720" y="3124080"/>
            <a:ext cx="64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81680" y="3505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743200" y="281952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00600" y="281952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DCFD0-9638-4A0B-861D-057D836A1B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LOCAL PREF – Common Use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andle traffic directed to multi-homed transit custom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ows provider to prefer a ro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ering vs. trans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er to use peering connection, wh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, customer &gt; peer &gt; provi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LOCAL PREF to ensure th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E2B7B-DB4A-40BF-81B0-1A365FCE4A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S_PAT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of traversed AS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 rot="10800000">
            <a:off x="1066320" y="2285640"/>
            <a:ext cx="708660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2362320" y="2362320"/>
            <a:ext cx="1828080" cy="1066320"/>
            <a:chOff x="2362320" y="2362320"/>
            <a:chExt cx="1828080" cy="1066320"/>
          </a:xfrm>
        </p:grpSpPr>
        <p:sp>
          <p:nvSpPr>
            <p:cNvPr id="384" name=""/>
            <p:cNvSpPr/>
            <p:nvPr/>
          </p:nvSpPr>
          <p:spPr>
            <a:xfrm>
              <a:off x="3389400" y="23846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23623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62320" y="28933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54680" y="28933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638680" y="2362320"/>
            <a:ext cx="1828080" cy="1066320"/>
            <a:chOff x="5638680" y="2362320"/>
            <a:chExt cx="1828080" cy="1066320"/>
          </a:xfrm>
        </p:grpSpPr>
        <p:sp>
          <p:nvSpPr>
            <p:cNvPr id="389" name=""/>
            <p:cNvSpPr/>
            <p:nvPr/>
          </p:nvSpPr>
          <p:spPr>
            <a:xfrm>
              <a:off x="6665760" y="23846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8680" y="23623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38680" y="28933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31040" y="28933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362320" y="3733920"/>
            <a:ext cx="1828080" cy="1066320"/>
            <a:chOff x="2362320" y="3733920"/>
            <a:chExt cx="1828080" cy="1066320"/>
          </a:xfrm>
        </p:grpSpPr>
        <p:sp>
          <p:nvSpPr>
            <p:cNvPr id="394" name=""/>
            <p:cNvSpPr/>
            <p:nvPr/>
          </p:nvSpPr>
          <p:spPr>
            <a:xfrm>
              <a:off x="3389400" y="37562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62320" y="37339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62320" y="42649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54680" y="42649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362320" y="5105520"/>
            <a:ext cx="1828080" cy="1066320"/>
            <a:chOff x="2362320" y="5105520"/>
            <a:chExt cx="1828080" cy="1066320"/>
          </a:xfrm>
        </p:grpSpPr>
        <p:sp>
          <p:nvSpPr>
            <p:cNvPr id="399" name=""/>
            <p:cNvSpPr/>
            <p:nvPr/>
          </p:nvSpPr>
          <p:spPr>
            <a:xfrm>
              <a:off x="3389400" y="5127840"/>
              <a:ext cx="801000" cy="51696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0" y="23"/>
                  </a:moveTo>
                  <a:lnTo>
                    <a:pt x="5" y="23"/>
                  </a:lnTo>
                  <a:lnTo>
                    <a:pt x="10" y="19"/>
                  </a:lnTo>
                  <a:lnTo>
                    <a:pt x="17" y="14"/>
                  </a:lnTo>
                  <a:lnTo>
                    <a:pt x="26" y="9"/>
                  </a:lnTo>
                  <a:lnTo>
                    <a:pt x="36" y="4"/>
                  </a:lnTo>
                  <a:lnTo>
                    <a:pt x="50" y="2"/>
                  </a:lnTo>
                  <a:lnTo>
                    <a:pt x="65" y="0"/>
                  </a:lnTo>
                  <a:lnTo>
                    <a:pt x="79" y="0"/>
                  </a:lnTo>
                  <a:lnTo>
                    <a:pt x="96" y="4"/>
                  </a:lnTo>
                  <a:lnTo>
                    <a:pt x="110" y="11"/>
                  </a:lnTo>
                  <a:lnTo>
                    <a:pt x="124" y="23"/>
                  </a:lnTo>
                  <a:lnTo>
                    <a:pt x="134" y="33"/>
                  </a:lnTo>
                  <a:lnTo>
                    <a:pt x="143" y="42"/>
                  </a:lnTo>
                  <a:lnTo>
                    <a:pt x="148" y="52"/>
                  </a:lnTo>
                  <a:lnTo>
                    <a:pt x="150" y="59"/>
                  </a:lnTo>
                  <a:lnTo>
                    <a:pt x="153" y="66"/>
                  </a:lnTo>
                  <a:lnTo>
                    <a:pt x="153" y="73"/>
                  </a:lnTo>
                  <a:lnTo>
                    <a:pt x="153" y="78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3" y="81"/>
                  </a:lnTo>
                  <a:lnTo>
                    <a:pt x="155" y="78"/>
                  </a:lnTo>
                  <a:lnTo>
                    <a:pt x="160" y="76"/>
                  </a:lnTo>
                  <a:lnTo>
                    <a:pt x="167" y="73"/>
                  </a:lnTo>
                  <a:lnTo>
                    <a:pt x="174" y="71"/>
                  </a:lnTo>
                  <a:lnTo>
                    <a:pt x="181" y="69"/>
                  </a:lnTo>
                  <a:lnTo>
                    <a:pt x="191" y="69"/>
                  </a:lnTo>
                  <a:lnTo>
                    <a:pt x="200" y="71"/>
                  </a:lnTo>
                  <a:lnTo>
                    <a:pt x="210" y="73"/>
                  </a:lnTo>
                  <a:lnTo>
                    <a:pt x="219" y="81"/>
                  </a:lnTo>
                  <a:lnTo>
                    <a:pt x="229" y="90"/>
                  </a:lnTo>
                  <a:lnTo>
                    <a:pt x="234" y="97"/>
                  </a:lnTo>
                  <a:lnTo>
                    <a:pt x="236" y="107"/>
                  </a:lnTo>
                  <a:lnTo>
                    <a:pt x="239" y="116"/>
                  </a:lnTo>
                  <a:lnTo>
                    <a:pt x="239" y="124"/>
                  </a:lnTo>
                  <a:lnTo>
                    <a:pt x="236" y="131"/>
                  </a:lnTo>
                  <a:lnTo>
                    <a:pt x="236" y="138"/>
                  </a:lnTo>
                  <a:lnTo>
                    <a:pt x="234" y="143"/>
                  </a:lnTo>
                  <a:lnTo>
                    <a:pt x="234" y="145"/>
                  </a:lnTo>
                  <a:lnTo>
                    <a:pt x="231" y="145"/>
                  </a:lnTo>
                  <a:lnTo>
                    <a:pt x="234" y="147"/>
                  </a:lnTo>
                  <a:lnTo>
                    <a:pt x="236" y="147"/>
                  </a:lnTo>
                  <a:lnTo>
                    <a:pt x="241" y="152"/>
                  </a:lnTo>
                  <a:lnTo>
                    <a:pt x="248" y="157"/>
                  </a:lnTo>
                  <a:lnTo>
                    <a:pt x="253" y="164"/>
                  </a:lnTo>
                  <a:lnTo>
                    <a:pt x="260" y="174"/>
                  </a:lnTo>
                  <a:lnTo>
                    <a:pt x="267" y="183"/>
                  </a:lnTo>
                  <a:lnTo>
                    <a:pt x="272" y="195"/>
                  </a:lnTo>
                  <a:lnTo>
                    <a:pt x="274" y="212"/>
                  </a:lnTo>
                  <a:lnTo>
                    <a:pt x="277" y="228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5105520"/>
              <a:ext cx="1035720" cy="535680"/>
            </a:xfrm>
            <a:custGeom>
              <a:avLst/>
              <a:gdLst/>
              <a:ahLst/>
              <a:rect l="l" t="t" r="r" b="b"/>
              <a:pathLst>
                <a:path w="358" h="236">
                  <a:moveTo>
                    <a:pt x="0" y="236"/>
                  </a:moveTo>
                  <a:lnTo>
                    <a:pt x="2" y="219"/>
                  </a:lnTo>
                  <a:lnTo>
                    <a:pt x="5" y="205"/>
                  </a:lnTo>
                  <a:lnTo>
                    <a:pt x="9" y="193"/>
                  </a:lnTo>
                  <a:lnTo>
                    <a:pt x="14" y="181"/>
                  </a:lnTo>
                  <a:lnTo>
                    <a:pt x="21" y="174"/>
                  </a:lnTo>
                  <a:lnTo>
                    <a:pt x="29" y="167"/>
                  </a:lnTo>
                  <a:lnTo>
                    <a:pt x="33" y="162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3" y="155"/>
                  </a:lnTo>
                  <a:lnTo>
                    <a:pt x="40" y="150"/>
                  </a:lnTo>
                  <a:lnTo>
                    <a:pt x="40" y="145"/>
                  </a:lnTo>
                  <a:lnTo>
                    <a:pt x="38" y="141"/>
                  </a:lnTo>
                  <a:lnTo>
                    <a:pt x="38" y="134"/>
                  </a:lnTo>
                  <a:lnTo>
                    <a:pt x="38" y="124"/>
                  </a:lnTo>
                  <a:lnTo>
                    <a:pt x="38" y="117"/>
                  </a:lnTo>
                  <a:lnTo>
                    <a:pt x="43" y="107"/>
                  </a:lnTo>
                  <a:lnTo>
                    <a:pt x="48" y="98"/>
                  </a:lnTo>
                  <a:lnTo>
                    <a:pt x="55" y="91"/>
                  </a:lnTo>
                  <a:lnTo>
                    <a:pt x="67" y="83"/>
                  </a:lnTo>
                  <a:lnTo>
                    <a:pt x="76" y="81"/>
                  </a:lnTo>
                  <a:lnTo>
                    <a:pt x="83" y="79"/>
                  </a:lnTo>
                  <a:lnTo>
                    <a:pt x="93" y="79"/>
                  </a:lnTo>
                  <a:lnTo>
                    <a:pt x="102" y="81"/>
                  </a:lnTo>
                  <a:lnTo>
                    <a:pt x="110" y="83"/>
                  </a:lnTo>
                  <a:lnTo>
                    <a:pt x="114" y="86"/>
                  </a:lnTo>
                  <a:lnTo>
                    <a:pt x="119" y="88"/>
                  </a:lnTo>
                  <a:lnTo>
                    <a:pt x="121" y="91"/>
                  </a:lnTo>
                  <a:lnTo>
                    <a:pt x="124" y="91"/>
                  </a:lnTo>
                  <a:lnTo>
                    <a:pt x="124" y="88"/>
                  </a:lnTo>
                  <a:lnTo>
                    <a:pt x="121" y="86"/>
                  </a:lnTo>
                  <a:lnTo>
                    <a:pt x="121" y="81"/>
                  </a:lnTo>
                  <a:lnTo>
                    <a:pt x="124" y="76"/>
                  </a:lnTo>
                  <a:lnTo>
                    <a:pt x="124" y="69"/>
                  </a:lnTo>
                  <a:lnTo>
                    <a:pt x="129" y="60"/>
                  </a:lnTo>
                  <a:lnTo>
                    <a:pt x="133" y="52"/>
                  </a:lnTo>
                  <a:lnTo>
                    <a:pt x="141" y="43"/>
                  </a:lnTo>
                  <a:lnTo>
                    <a:pt x="152" y="31"/>
                  </a:lnTo>
                  <a:lnTo>
                    <a:pt x="164" y="21"/>
                  </a:lnTo>
                  <a:lnTo>
                    <a:pt x="181" y="14"/>
                  </a:lnTo>
                  <a:lnTo>
                    <a:pt x="195" y="10"/>
                  </a:lnTo>
                  <a:lnTo>
                    <a:pt x="212" y="10"/>
                  </a:lnTo>
                  <a:lnTo>
                    <a:pt x="226" y="10"/>
                  </a:lnTo>
                  <a:lnTo>
                    <a:pt x="238" y="14"/>
                  </a:lnTo>
                  <a:lnTo>
                    <a:pt x="250" y="19"/>
                  </a:lnTo>
                  <a:lnTo>
                    <a:pt x="260" y="24"/>
                  </a:lnTo>
                  <a:lnTo>
                    <a:pt x="267" y="29"/>
                  </a:lnTo>
                  <a:lnTo>
                    <a:pt x="272" y="31"/>
                  </a:lnTo>
                  <a:lnTo>
                    <a:pt x="274" y="33"/>
                  </a:lnTo>
                  <a:lnTo>
                    <a:pt x="274" y="31"/>
                  </a:lnTo>
                  <a:lnTo>
                    <a:pt x="274" y="29"/>
                  </a:lnTo>
                  <a:lnTo>
                    <a:pt x="274" y="26"/>
                  </a:lnTo>
                  <a:lnTo>
                    <a:pt x="276" y="21"/>
                  </a:lnTo>
                  <a:lnTo>
                    <a:pt x="279" y="17"/>
                  </a:lnTo>
                  <a:lnTo>
                    <a:pt x="284" y="12"/>
                  </a:lnTo>
                  <a:lnTo>
                    <a:pt x="288" y="7"/>
                  </a:lnTo>
                  <a:lnTo>
                    <a:pt x="296" y="5"/>
                  </a:lnTo>
                  <a:lnTo>
                    <a:pt x="305" y="2"/>
                  </a:lnTo>
                  <a:lnTo>
                    <a:pt x="315" y="0"/>
                  </a:lnTo>
                  <a:lnTo>
                    <a:pt x="327" y="2"/>
                  </a:lnTo>
                  <a:lnTo>
                    <a:pt x="336" y="5"/>
                  </a:lnTo>
                  <a:lnTo>
                    <a:pt x="343" y="7"/>
                  </a:lnTo>
                  <a:lnTo>
                    <a:pt x="348" y="12"/>
                  </a:lnTo>
                  <a:lnTo>
                    <a:pt x="350" y="17"/>
                  </a:lnTo>
                  <a:lnTo>
                    <a:pt x="355" y="21"/>
                  </a:lnTo>
                  <a:lnTo>
                    <a:pt x="355" y="26"/>
                  </a:lnTo>
                  <a:lnTo>
                    <a:pt x="358" y="29"/>
                  </a:lnTo>
                  <a:lnTo>
                    <a:pt x="358" y="31"/>
                  </a:lnTo>
                  <a:lnTo>
                    <a:pt x="358" y="33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2320" y="5636520"/>
              <a:ext cx="786960" cy="519840"/>
            </a:xfrm>
            <a:custGeom>
              <a:avLst/>
              <a:gdLst/>
              <a:ahLst/>
              <a:rect l="l" t="t" r="r" b="b"/>
              <a:pathLst>
                <a:path w="272" h="229">
                  <a:moveTo>
                    <a:pt x="272" y="202"/>
                  </a:moveTo>
                  <a:lnTo>
                    <a:pt x="272" y="205"/>
                  </a:lnTo>
                  <a:lnTo>
                    <a:pt x="267" y="207"/>
                  </a:lnTo>
                  <a:lnTo>
                    <a:pt x="260" y="212"/>
                  </a:lnTo>
                  <a:lnTo>
                    <a:pt x="250" y="217"/>
                  </a:lnTo>
                  <a:lnTo>
                    <a:pt x="238" y="221"/>
                  </a:lnTo>
                  <a:lnTo>
                    <a:pt x="226" y="226"/>
                  </a:lnTo>
                  <a:lnTo>
                    <a:pt x="212" y="229"/>
                  </a:lnTo>
                  <a:lnTo>
                    <a:pt x="195" y="226"/>
                  </a:lnTo>
                  <a:lnTo>
                    <a:pt x="181" y="224"/>
                  </a:lnTo>
                  <a:lnTo>
                    <a:pt x="164" y="214"/>
                  </a:lnTo>
                  <a:lnTo>
                    <a:pt x="152" y="205"/>
                  </a:lnTo>
                  <a:lnTo>
                    <a:pt x="141" y="195"/>
                  </a:lnTo>
                  <a:lnTo>
                    <a:pt x="133" y="186"/>
                  </a:lnTo>
                  <a:lnTo>
                    <a:pt x="129" y="176"/>
                  </a:lnTo>
                  <a:lnTo>
                    <a:pt x="124" y="167"/>
                  </a:lnTo>
                  <a:lnTo>
                    <a:pt x="124" y="159"/>
                  </a:lnTo>
                  <a:lnTo>
                    <a:pt x="121" y="155"/>
                  </a:lnTo>
                  <a:lnTo>
                    <a:pt x="121" y="150"/>
                  </a:lnTo>
                  <a:lnTo>
                    <a:pt x="124" y="148"/>
                  </a:lnTo>
                  <a:lnTo>
                    <a:pt x="124" y="145"/>
                  </a:lnTo>
                  <a:lnTo>
                    <a:pt x="121" y="148"/>
                  </a:lnTo>
                  <a:lnTo>
                    <a:pt x="119" y="150"/>
                  </a:lnTo>
                  <a:lnTo>
                    <a:pt x="114" y="152"/>
                  </a:lnTo>
                  <a:lnTo>
                    <a:pt x="110" y="155"/>
                  </a:lnTo>
                  <a:lnTo>
                    <a:pt x="102" y="157"/>
                  </a:lnTo>
                  <a:lnTo>
                    <a:pt x="93" y="157"/>
                  </a:lnTo>
                  <a:lnTo>
                    <a:pt x="83" y="157"/>
                  </a:lnTo>
                  <a:lnTo>
                    <a:pt x="76" y="157"/>
                  </a:lnTo>
                  <a:lnTo>
                    <a:pt x="67" y="152"/>
                  </a:lnTo>
                  <a:lnTo>
                    <a:pt x="55" y="145"/>
                  </a:lnTo>
                  <a:lnTo>
                    <a:pt x="48" y="138"/>
                  </a:lnTo>
                  <a:lnTo>
                    <a:pt x="43" y="128"/>
                  </a:lnTo>
                  <a:lnTo>
                    <a:pt x="38" y="121"/>
                  </a:lnTo>
                  <a:lnTo>
                    <a:pt x="38" y="112"/>
                  </a:lnTo>
                  <a:lnTo>
                    <a:pt x="38" y="105"/>
                  </a:lnTo>
                  <a:lnTo>
                    <a:pt x="38" y="97"/>
                  </a:lnTo>
                  <a:lnTo>
                    <a:pt x="40" y="90"/>
                  </a:lnTo>
                  <a:lnTo>
                    <a:pt x="40" y="86"/>
                  </a:lnTo>
                  <a:lnTo>
                    <a:pt x="43" y="83"/>
                  </a:lnTo>
                  <a:lnTo>
                    <a:pt x="43" y="81"/>
                  </a:lnTo>
                  <a:lnTo>
                    <a:pt x="43" y="81"/>
                  </a:lnTo>
                  <a:lnTo>
                    <a:pt x="38" y="78"/>
                  </a:lnTo>
                  <a:lnTo>
                    <a:pt x="33" y="76"/>
                  </a:lnTo>
                  <a:lnTo>
                    <a:pt x="29" y="71"/>
                  </a:lnTo>
                  <a:lnTo>
                    <a:pt x="21" y="64"/>
                  </a:lnTo>
                  <a:lnTo>
                    <a:pt x="14" y="55"/>
                  </a:lnTo>
                  <a:lnTo>
                    <a:pt x="9" y="45"/>
                  </a:lnTo>
                  <a:lnTo>
                    <a:pt x="5" y="3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54680" y="5636520"/>
              <a:ext cx="1027080" cy="535320"/>
            </a:xfrm>
            <a:custGeom>
              <a:avLst/>
              <a:gdLst/>
              <a:ahLst/>
              <a:rect l="l" t="t" r="r" b="b"/>
              <a:pathLst>
                <a:path w="355" h="236">
                  <a:moveTo>
                    <a:pt x="355" y="0"/>
                  </a:moveTo>
                  <a:lnTo>
                    <a:pt x="355" y="16"/>
                  </a:lnTo>
                  <a:lnTo>
                    <a:pt x="353" y="33"/>
                  </a:lnTo>
                  <a:lnTo>
                    <a:pt x="348" y="45"/>
                  </a:lnTo>
                  <a:lnTo>
                    <a:pt x="341" y="55"/>
                  </a:lnTo>
                  <a:lnTo>
                    <a:pt x="334" y="64"/>
                  </a:lnTo>
                  <a:lnTo>
                    <a:pt x="329" y="71"/>
                  </a:lnTo>
                  <a:lnTo>
                    <a:pt x="322" y="76"/>
                  </a:lnTo>
                  <a:lnTo>
                    <a:pt x="317" y="78"/>
                  </a:lnTo>
                  <a:lnTo>
                    <a:pt x="315" y="81"/>
                  </a:lnTo>
                  <a:lnTo>
                    <a:pt x="312" y="83"/>
                  </a:lnTo>
                  <a:lnTo>
                    <a:pt x="315" y="83"/>
                  </a:lnTo>
                  <a:lnTo>
                    <a:pt x="315" y="86"/>
                  </a:lnTo>
                  <a:lnTo>
                    <a:pt x="317" y="90"/>
                  </a:lnTo>
                  <a:lnTo>
                    <a:pt x="317" y="97"/>
                  </a:lnTo>
                  <a:lnTo>
                    <a:pt x="320" y="105"/>
                  </a:lnTo>
                  <a:lnTo>
                    <a:pt x="320" y="112"/>
                  </a:lnTo>
                  <a:lnTo>
                    <a:pt x="317" y="121"/>
                  </a:lnTo>
                  <a:lnTo>
                    <a:pt x="315" y="131"/>
                  </a:lnTo>
                  <a:lnTo>
                    <a:pt x="310" y="138"/>
                  </a:lnTo>
                  <a:lnTo>
                    <a:pt x="300" y="148"/>
                  </a:lnTo>
                  <a:lnTo>
                    <a:pt x="291" y="152"/>
                  </a:lnTo>
                  <a:lnTo>
                    <a:pt x="281" y="157"/>
                  </a:lnTo>
                  <a:lnTo>
                    <a:pt x="272" y="159"/>
                  </a:lnTo>
                  <a:lnTo>
                    <a:pt x="262" y="159"/>
                  </a:lnTo>
                  <a:lnTo>
                    <a:pt x="255" y="157"/>
                  </a:lnTo>
                  <a:lnTo>
                    <a:pt x="248" y="155"/>
                  </a:lnTo>
                  <a:lnTo>
                    <a:pt x="241" y="152"/>
                  </a:lnTo>
                  <a:lnTo>
                    <a:pt x="236" y="150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48"/>
                  </a:lnTo>
                  <a:lnTo>
                    <a:pt x="234" y="150"/>
                  </a:lnTo>
                  <a:lnTo>
                    <a:pt x="234" y="155"/>
                  </a:lnTo>
                  <a:lnTo>
                    <a:pt x="234" y="162"/>
                  </a:lnTo>
                  <a:lnTo>
                    <a:pt x="231" y="169"/>
                  </a:lnTo>
                  <a:lnTo>
                    <a:pt x="229" y="176"/>
                  </a:lnTo>
                  <a:lnTo>
                    <a:pt x="224" y="186"/>
                  </a:lnTo>
                  <a:lnTo>
                    <a:pt x="215" y="195"/>
                  </a:lnTo>
                  <a:lnTo>
                    <a:pt x="205" y="205"/>
                  </a:lnTo>
                  <a:lnTo>
                    <a:pt x="191" y="217"/>
                  </a:lnTo>
                  <a:lnTo>
                    <a:pt x="177" y="224"/>
                  </a:lnTo>
                  <a:lnTo>
                    <a:pt x="160" y="229"/>
                  </a:lnTo>
                  <a:lnTo>
                    <a:pt x="146" y="229"/>
                  </a:lnTo>
                  <a:lnTo>
                    <a:pt x="131" y="226"/>
                  </a:lnTo>
                  <a:lnTo>
                    <a:pt x="117" y="224"/>
                  </a:lnTo>
                  <a:lnTo>
                    <a:pt x="107" y="219"/>
                  </a:lnTo>
                  <a:lnTo>
                    <a:pt x="98" y="214"/>
                  </a:lnTo>
                  <a:lnTo>
                    <a:pt x="91" y="209"/>
                  </a:lnTo>
                  <a:lnTo>
                    <a:pt x="86" y="205"/>
                  </a:lnTo>
                  <a:lnTo>
                    <a:pt x="84" y="205"/>
                  </a:lnTo>
                  <a:lnTo>
                    <a:pt x="84" y="205"/>
                  </a:lnTo>
                  <a:lnTo>
                    <a:pt x="84" y="207"/>
                  </a:lnTo>
                  <a:lnTo>
                    <a:pt x="81" y="212"/>
                  </a:lnTo>
                  <a:lnTo>
                    <a:pt x="81" y="214"/>
                  </a:lnTo>
                  <a:lnTo>
                    <a:pt x="76" y="219"/>
                  </a:lnTo>
                  <a:lnTo>
                    <a:pt x="74" y="224"/>
                  </a:lnTo>
                  <a:lnTo>
                    <a:pt x="69" y="229"/>
                  </a:lnTo>
                  <a:lnTo>
                    <a:pt x="62" y="233"/>
                  </a:lnTo>
                  <a:lnTo>
                    <a:pt x="53" y="236"/>
                  </a:lnTo>
                  <a:lnTo>
                    <a:pt x="41" y="236"/>
                  </a:lnTo>
                  <a:lnTo>
                    <a:pt x="31" y="236"/>
                  </a:lnTo>
                  <a:lnTo>
                    <a:pt x="22" y="233"/>
                  </a:lnTo>
                  <a:lnTo>
                    <a:pt x="14" y="229"/>
                  </a:lnTo>
                  <a:lnTo>
                    <a:pt x="10" y="224"/>
                  </a:lnTo>
                  <a:lnTo>
                    <a:pt x="5" y="219"/>
                  </a:lnTo>
                  <a:lnTo>
                    <a:pt x="2" y="214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0" y="205"/>
                  </a:lnTo>
                </a:path>
              </a:pathLst>
            </a:custGeom>
            <a:noFill/>
            <a:ln w="1260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743200" y="5424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743200" y="4038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43200" y="2666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6668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29200" y="5257800"/>
            <a:ext cx="2743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0.10.0.0/16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00 200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0.10.0.0/16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300 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343400" y="5638680"/>
            <a:ext cx="5335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342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76720" y="480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91120" y="28954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95240" y="29224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70.10.0.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927400" y="29224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80.10.0.0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FA692-7CD7-44F6-BB3C-940FE5E873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80880" y="1600200"/>
            <a:ext cx="83822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IDR and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6" name=""/>
          <p:cNvSpPr/>
          <p:nvPr/>
        </p:nvSpPr>
        <p:spPr>
          <a:xfrm>
            <a:off x="1752480" y="27432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2666880"/>
            <a:ext cx="213372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752480" y="3886200"/>
            <a:ext cx="17528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77120" y="3505320"/>
            <a:ext cx="175248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05320" y="2971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12120" y="268920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2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12120" y="3832200"/>
            <a:ext cx="120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3.0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52240" y="3222720"/>
            <a:ext cx="14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T (provi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7.8.0.0/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21080" y="360360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96840" y="5116680"/>
            <a:ext cx="33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should T announce to Z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84225-D6DF-4230-A154-E38ABDC0058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ption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ertise all path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1: through T can reach 197.8.0.0/2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2: through T can reach 197.8.2.0/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3: through T can reach 197.8.3.0/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this does not reduce routing tables!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ould like to advertis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1: through T can reach 197.8.0.0/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8CA33-2A11-48CE-B0F9-3AD8206F99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 Hierarchi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at routing doesn’t sc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cannot be expected to have routes to every destination (or destination network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 observ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less information with increasing distance to desti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different approaches for rou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rea hierarch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andmark hierarchy (an alternativ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2445C-044D-4975-BEAA-0B9A364BE1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ets and Sequenc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33520" y="167760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blem: what do we list in the rout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mitting information not accept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y lead to loo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, X, Y: misleading, appears as 3-hop 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ution: restructure AS Path attribute a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: (Sequence (T), Set (X, Y)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Z wants to advertise pat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th: (Sequence (Z, T), Set (X, Y)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practice used only if paths in set have same attribu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BB6CD-D30A-4B1E-93CA-272927D5E5A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Exit Discriminator (MED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 to external neighbors about which path into an AS to pref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-transitive attribute (we will see later wh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 AS choose different sca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d when two AS’s connect to each other in more than one pl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7DC93-157A-4249-B622-0F999E3BF0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nt to R1 to use R3 over R4 lin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not compare AS40’s values to AS30’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 rot="10800000">
            <a:off x="1066320" y="2819160"/>
            <a:ext cx="708660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1080" y="304812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248520" y="3048120"/>
            <a:ext cx="1143000" cy="8380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57400" y="4876920"/>
            <a:ext cx="5334120" cy="12952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362320" y="32767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29400" y="32767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362320" y="52578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29400" y="52578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74284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62440" y="5916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64360" y="3630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19080" y="502920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649480" y="5105520"/>
            <a:ext cx="927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30440" y="3630600"/>
            <a:ext cx="56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301560" y="2971800"/>
            <a:ext cx="8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0.10.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 =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200040" y="35053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3200040" y="3962520"/>
            <a:ext cx="33526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1460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5800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EDF5D-C847-41CD-B151-C7D2E355B45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3200400"/>
            <a:ext cx="83822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" y="3809880"/>
            <a:ext cx="45720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077320" y="44197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1629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86880" y="4923000"/>
            <a:ext cx="500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1 ignores MED from ISP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2 obeys MED from ISP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P2 ends up carrying traffic most of the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23880" y="3657600"/>
            <a:ext cx="6096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4267080"/>
            <a:ext cx="6096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43000" y="39625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133720" y="4648320"/>
            <a:ext cx="5790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33720" y="403848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E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19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.g. used in peering or provider/subscriber scenario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lead to unfairness: may force an ISP to carry more traffic than its partn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06F01-228A-49C0-A763-EA114635B20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ther Attribut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urce of route (IGP, EGP, oth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 of next hop router to u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464E-012F-4B31-BC8C-2CFBD6C91C3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Decision Proces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ing order of attribut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route with highest LOCAL-PRE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ect route with shortest AS-P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ly MED (if routes learned from same neighb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A6A7A-3059-40D0-99BD-C58B41C07A2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0BF5C-635B-42A9-9DC1-DDF99DFA83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80880" y="4267080"/>
            <a:ext cx="838224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523880" y="449568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4572000"/>
            <a:ext cx="22860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51814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29000" y="4952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62720" y="49528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0" y="4572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62320" y="541008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253760" y="46879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B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602720" y="4876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38280" y="49528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vs. External B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1946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can be used by R3 and R4 to learn ro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R1 and R2 learn route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 1: Inject routes in I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works for small routing tab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tion 2: Use I-BG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5023-A875-4AA4-B7D9-A8509456422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BGP (I-BGP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me messages as E-B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rules about re-advertising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x learned from E-BGP can be advertised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-BGP neighbor and vice-versa, bu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fix learned from one I-BGP neighbor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n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 advertised to another I-BGP neighb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son: no AS PATH within the same AS and thus danger of loop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32699-C138-4E6C-A45B-FCF2D5C2DF1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0880" y="4419720"/>
            <a:ext cx="8382240" cy="22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47720" y="4773600"/>
            <a:ext cx="25909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57960" y="4849920"/>
            <a:ext cx="22860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010040" y="54594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52840" y="5230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86560" y="52308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409840" y="48499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86160" y="56880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76160" y="50133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B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67040" y="5078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43360" y="56113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308760" y="623268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BG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3171960" y="58402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 flipV="1">
            <a:off x="3171960" y="5230440"/>
            <a:ext cx="30456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 flipV="1">
            <a:off x="2104920" y="4468320"/>
            <a:ext cx="45720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485800" y="6145200"/>
            <a:ext cx="1522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679040" y="518148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014600" y="525780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al BGP (I-BGP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 tell R1 and R2 prefixes from R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 tell R4 prefixes from R1 and R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3 cannot tell R2 prefixes from 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 can only learn via a direct connection to 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: I-BGP routers must be fully connected (via TCP)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ast: E-BGP sessions usually map to physical lin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F1109-D7E1-4BE7-883D-5D3B47FA0F5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rea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vide network into are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as can have nested sub-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traint: no path between two sub-areas of an area can exit that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erarchically address nodes in a net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quentially number top-level are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-areas of area are labeled relative to that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des are numbered relative to the smallest containing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F78B9-58CA-4610-9C60-5193AC9B49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ink Failure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ypes of link failur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lure on an E-BGP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ilure on an I-BGP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failures are treated completely different in B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92337-8BCF-4C26-8247-D8816E15CB8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80880" y="3657600"/>
            <a:ext cx="838224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19320" y="3962520"/>
            <a:ext cx="213336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95480" y="4572000"/>
            <a:ext cx="38124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638680" y="3962520"/>
            <a:ext cx="213372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715000" y="457200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276720" y="48006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76720" y="46483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732120" y="492300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656520" y="4237200"/>
            <a:ext cx="17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-BGP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06080" y="56088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8.39.1.1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54200" y="5608800"/>
            <a:ext cx="15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8.39.1.2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5638320" y="487656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276720" y="487656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4314240" y="4640400"/>
            <a:ext cx="235800" cy="309960"/>
            <a:chOff x="4314240" y="4640400"/>
            <a:chExt cx="235800" cy="309960"/>
          </a:xfrm>
        </p:grpSpPr>
        <p:sp>
          <p:nvSpPr>
            <p:cNvPr id="525" name=""/>
            <p:cNvSpPr/>
            <p:nvPr/>
          </p:nvSpPr>
          <p:spPr>
            <a:xfrm flipV="1">
              <a:off x="4314240" y="4645440"/>
              <a:ext cx="235800" cy="299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4321080" y="4640400"/>
              <a:ext cx="221400" cy="309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ailure of an E-BGP Lin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the link R1-R2 goes 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CP connection brea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 routes are remov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esi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havi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18480-7559-4130-91C4-F301FD74B9F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80880" y="3962520"/>
            <a:ext cx="838224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38280" y="4114800"/>
            <a:ext cx="3810240" cy="2209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743200" y="51814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4191120"/>
            <a:ext cx="3808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486400" y="5181480"/>
            <a:ext cx="3808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24080" y="54864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048120" y="4495320"/>
            <a:ext cx="10666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95680" y="4495680"/>
            <a:ext cx="10670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24080" y="5356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4419360" y="457164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3124080" y="45716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103720" y="4313160"/>
            <a:ext cx="150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952520" y="4495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121560" y="55324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-BGP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42670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53200" y="4898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.1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743920" y="4213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.2/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391200" y="4653000"/>
            <a:ext cx="380880" cy="370080"/>
            <a:chOff x="3391200" y="4653000"/>
            <a:chExt cx="380880" cy="370080"/>
          </a:xfrm>
        </p:grpSpPr>
        <p:sp>
          <p:nvSpPr>
            <p:cNvPr id="547" name=""/>
            <p:cNvSpPr/>
            <p:nvPr/>
          </p:nvSpPr>
          <p:spPr>
            <a:xfrm flipV="1">
              <a:off x="3391200" y="4830480"/>
              <a:ext cx="380880" cy="15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3535560" y="4653000"/>
              <a:ext cx="91440" cy="370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Failure on an I-BGP Lin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R1-R2 down =&gt; R1 and R2 can still exchange traffi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path through R3 must b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-BGP and I-BGP use different conventions with respect to TCP endpoi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-BGP: no multihop -- I-BGP: multihop O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32FE2-BE90-490B-A7C8-9CE0EA07C72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-Ho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ability Iss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218CC-8435-44DB-B953-FC8A4F06CC0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hom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ulti-hom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twork has several connections to the Interne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roves reliability and performan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accommodate link fail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dwidth is sum of links to Int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tting policy right (MED, etc.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F6F78-83A6-46CD-845B-88CB16FE521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Multi-homing to Multiple Provider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6576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jor issu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re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stomer address spac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egated by ISP1 and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tained independen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59F79-0138-423F-864E-CDFA523DD92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ddress Space from one IS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4419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uses address space from ISP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dvertises /16 aggreg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advertises /24 route to ISP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2 relays route to ISP1 and ISP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2-3 use /24 rou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routes direc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lems with traffic load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"/>
          <p:cNvSpPr/>
          <p:nvPr/>
        </p:nvSpPr>
        <p:spPr>
          <a:xfrm>
            <a:off x="4919400" y="28177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375960" y="51800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543800" y="281952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7620120" y="4114800"/>
            <a:ext cx="457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562720" y="4114800"/>
            <a:ext cx="5331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2499-C214-41BF-9458-AF2F0CEA2C6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Pitfal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ggregates to a /19 at border router to reduce internal tabl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still announces /1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hears /24 from ISP2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routes packets for customer to ISP2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around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ject /24 in I-BG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"/>
          <p:cNvSpPr/>
          <p:nvPr/>
        </p:nvSpPr>
        <p:spPr>
          <a:xfrm>
            <a:off x="6477120" y="342900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75760" y="42656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0/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5029200" y="388584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19400" y="281772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/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43800" y="2819520"/>
            <a:ext cx="5335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620120" y="4114800"/>
            <a:ext cx="457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75960" y="518004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F968-944C-4930-91B7-90CFB111838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ddress Space from Both ISP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8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P1 and ISP2 continue to announce aggrega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ad sharing depends on traffic to two prefix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ck of reliability: if ISP1 link goes down, part of customer becomes inaccessib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stomer may announce prefixes to both ISPs, but still problems with longest match as in case 1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"/>
          <p:cNvSpPr/>
          <p:nvPr/>
        </p:nvSpPr>
        <p:spPr>
          <a:xfrm>
            <a:off x="5156640" y="446256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8.39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518960" y="4417920"/>
            <a:ext cx="11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4.70.1/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A2F7F-FFBC-4998-B321-4677AF0E007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4724280" y="1523880"/>
            <a:ext cx="4191120" cy="449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dependent Address Spac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0179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fers the most control, but at the cost of aggrega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ll need to control path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y ISP’s ignore advertisements of less than /1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510552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319880" y="317808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151680" y="2286000"/>
            <a:ext cx="1290600" cy="743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5719680" y="2954160"/>
            <a:ext cx="67644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7195680" y="2954160"/>
            <a:ext cx="800280" cy="223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19680" y="3921120"/>
            <a:ext cx="86220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195680" y="3921120"/>
            <a:ext cx="800280" cy="66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396120" y="3549600"/>
            <a:ext cx="923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248520" y="4419720"/>
            <a:ext cx="1290600" cy="742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B122D-746E-44AF-A289-BC4DB6195B4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E14FF-3969-47B4-BFCB-698550B3B1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utli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hierarch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et struc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rnal BGP (E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nal BGP (I-BG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GP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-Ho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tability Iss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9788-8977-44B6-A652-343F6534A9B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igns of Routing Instabilit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itored BGP messages at major ex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ers of magnitude more updates than expec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lk: duplicate withdraw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ateless implementation of BGP – did not keep track of information passed to pe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act of few implemen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ong frequency (30/60 sec) compon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action with other local routing/links etc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120F7-C89C-4602-B068-00CE76F5527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e Flap Stor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45820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loaded routers fail to send Keep_Alive message and marked as 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-BGP peers find alternate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verloaded router re-establishes peering s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t send large updat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creased load causes more routers to fail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00C12-0CBD-472F-8FCA-CD00FB143AB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e Flap Dampen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ers now give higher priority to BGP/Keep_Alive to avoid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ociate a penalty with each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e when route fla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onentially decay penalty with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penalty reaches threshold, suppress rou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3F1EE-6B90-494F-949E-DEFBC917F33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34308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0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10148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674600" y="2286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R,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50760" y="48769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*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092960" y="487692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1R,*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C46CD-C9D3-49E5-B291-D788BFCDF09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4308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1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50560" y="24526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36360" y="4952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R,-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00880" y="50292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R,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267080" y="3047760"/>
            <a:ext cx="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3048120" y="4191120"/>
            <a:ext cx="7617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648320" y="4114800"/>
            <a:ext cx="8380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52880" y="3962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4038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399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257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2512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22160" y="24526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R,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960600" y="495288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*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9800" y="50292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R,1R,*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799C0-BAEA-4064-9A68-FA12D365867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4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896720" y="2438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4172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31400" y="50292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01R,*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14600" y="34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666880" y="281952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876920" y="281952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91588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24780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64880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198480" y="24382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96920" y="49528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R,-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5760" y="502920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R,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12095-25C0-4B18-AA20-CCA8C4DA06F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801320" y="2438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9360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2952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4876560" y="281916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6113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241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57248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87080" y="245268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R,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5602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07160" y="50292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1R,*1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DA326-6EDA-4282-B48D-42023014DD88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56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7640" y="24526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563440" y="49528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75356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362320" y="3443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2666880" y="281916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962520" y="5029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43960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525720" y="4952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49652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22200" y="24382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88880" y="49528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8504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83A96-F2C7-468C-B9DB-6074EF144DE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7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33360" y="24382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237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071080" y="50436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486400" y="3429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 flipV="1">
            <a:off x="4876560" y="2819160"/>
            <a:ext cx="990360" cy="144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66920" y="245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41916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28080" y="5043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255720" y="243828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7953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46840" y="50292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10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8F015-551A-4FC7-AC0F-CCC016ADC28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’s Area Hierarch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utonomous Syste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AS)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et of routers under a single technical administration, using a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interior gateway protocol (IG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common metrics to route packets within the AS and using an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exterior gateway protocol (EGP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route packets to other AS’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AS assigned unique 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’s peer at network exchan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09C61-F5F5-43E5-BFAE-2B6D455E05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228600" y="1523880"/>
            <a:ext cx="8458200" cy="472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962520" y="3657600"/>
            <a:ext cx="609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Limitations: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18" name=""/>
          <p:cNvSpPr/>
          <p:nvPr/>
        </p:nvSpPr>
        <p:spPr>
          <a:xfrm>
            <a:off x="3809880" y="2438280"/>
            <a:ext cx="9907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486400" y="4419720"/>
            <a:ext cx="9907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33720" y="4495680"/>
            <a:ext cx="9903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2743200" y="2819520"/>
            <a:ext cx="114300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124080" y="48006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724280" y="2819520"/>
            <a:ext cx="10670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267080" y="2971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3048120" y="41911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572000" y="4191120"/>
            <a:ext cx="9907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909240" y="24382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226600" y="449568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585760" y="441972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4928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890240" y="25290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*12R,21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39760" y="50436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-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988640" y="50436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514600" y="34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666880" y="2819160"/>
            <a:ext cx="106704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00400" y="495288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5029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490800" y="25290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*12R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56676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-,-,*20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94880" y="50292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01R,-,-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171480" y="2529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7148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25120" y="50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4038480" y="37339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215FB-F05A-4983-8DB9-B5571756D9A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GP path exploratio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946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possible explore every possible path through networ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n-1)! Combin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it between update messages (MinRouteAdver) reduces explo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ces router to process all outstanding mess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 Internet failover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/shorter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6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simple replacement at no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wn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8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search of possible option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nger lin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2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ults in replacement or search based on leng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8FC3A-DE06-40E3-BCA6-2FF8609E2D7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80416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in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has routes to every other n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side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has routes for 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other top-level areas on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 Inter-area packets to nearest appropriate border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sult in sub-optimal pa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23EF2-AD0B-4C9D-9291-15D5A89CA7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story: I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760" y="157140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common IGP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P: Routing Information Protoco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v1: 1988, v2: 1994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PF: Open Shortest Path Fir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988 - 1998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IS-IS: Intermediate system to intermediate system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(mid to end 90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RP: 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nhanced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ior Gateway Routing Protocol (Cisco proprietary, mid-80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2FD0-8726-4967-A38A-0EBC899C4F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istory: EG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d-80s: EG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hability protocol (no shortest path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d not accommodate cycles (tree topology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olved when all networks connected to NSF backb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ult: BGP introduced as routing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test version = BGP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-4 supports CID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mary objective: connectivity not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98EA9-4BC7-4CC7-B9BF-81FBCD7308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Anja Feldmann</dc:creator>
  <dc:description/>
  <dc:language>en-US</dc:language>
  <cp:lastModifiedBy>anja</cp:lastModifiedBy>
  <dcterms:modified xsi:type="dcterms:W3CDTF">2004-01-08T13:00:27Z</dcterms:modified>
  <cp:revision>199</cp:revision>
  <dc:subject/>
  <dc:title>Part I: Introduction</dc:title>
</cp:coreProperties>
</file>