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E417-D3A1-4EB9-BB0E-D68D1E38D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choi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ould you use this? Between ISPs? At ed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2E44C-0478-4EE7-9A3F-F399D7F595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4199040"/>
            <a:ext cx="81946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8AC6C-1F38-4700-BF4A-D2CAB67F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3220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20DF5-01C2-407A-982F-5BC69FEF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4080" y="160020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4640" y="160020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419904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4080" y="419904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4640" y="419904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7C3A8-A5C8-42CE-A81B-A30BF6B600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02CC3-A1EE-44C7-88B6-6F767D62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114AC-34B9-4E52-AF60-8AD64DE0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732E4-5A23-4B12-AF9E-3603E3B1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15D2F-3C35-4601-AC50-085ECD95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A3877-3C8D-4059-872B-AD9C459A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EC97A-7B1B-4ADB-B043-8642FFC3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3220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94DF4-6044-4348-9497-B35D3C1E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4199040"/>
            <a:ext cx="81946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33847-AA28-43CB-8EF8-42413C14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0862-4557-4217-AD28-2C1764BA3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 Routing (cont.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0B87A-EE4F-4849-B1B2-2E9B3A8EC9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Logical View of the Internet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219320"/>
            <a:ext cx="42670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looking at RIP/OSPF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-hosts connected to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rs exchange messages to determine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TRU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1981080"/>
            <a:ext cx="403884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562720" y="3048120"/>
            <a:ext cx="2209680" cy="1676160"/>
            <a:chOff x="5562720" y="3048120"/>
            <a:chExt cx="2209680" cy="1676160"/>
          </a:xfrm>
        </p:grpSpPr>
        <p:sp>
          <p:nvSpPr>
            <p:cNvPr id="69" name=""/>
            <p:cNvSpPr/>
            <p:nvPr/>
          </p:nvSpPr>
          <p:spPr>
            <a:xfrm>
              <a:off x="5562720" y="3434760"/>
              <a:ext cx="95544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20920" y="3048120"/>
              <a:ext cx="113472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38880" y="3176640"/>
              <a:ext cx="119412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37680" y="3628080"/>
              <a:ext cx="113472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19720" y="3950640"/>
              <a:ext cx="1014840" cy="773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82240" y="3756960"/>
              <a:ext cx="1014840" cy="709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505560" y="3220920"/>
            <a:ext cx="266760" cy="26856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6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26120" y="251460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05560" y="43480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85000" y="2514600"/>
            <a:ext cx="26640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0556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78800" y="4986360"/>
            <a:ext cx="26640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4043520"/>
            <a:ext cx="268200" cy="269640"/>
          </a:xfrm>
          <a:custGeom>
            <a:avLst/>
            <a:gdLst/>
            <a:ahLst/>
            <a:rect l="l" t="t" r="r" b="b"/>
            <a:pathLst>
              <a:path w="169" h="170">
                <a:moveTo>
                  <a:pt x="0" y="168"/>
                </a:moveTo>
                <a:lnTo>
                  <a:pt x="169" y="170"/>
                </a:lnTo>
                <a:lnTo>
                  <a:pt x="169" y="0"/>
                </a:lnTo>
                <a:lnTo>
                  <a:pt x="0" y="0"/>
                </a:lnTo>
                <a:lnTo>
                  <a:pt x="0" y="170"/>
                </a:lnTo>
                <a:lnTo>
                  <a:pt x="0" y="170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3522600"/>
            <a:ext cx="268200" cy="266760"/>
          </a:xfrm>
          <a:custGeom>
            <a:avLst/>
            <a:gdLst/>
            <a:ahLst/>
            <a:rect l="l" t="t" r="r" b="b"/>
            <a:pathLst>
              <a:path w="169" h="168">
                <a:moveTo>
                  <a:pt x="0" y="168"/>
                </a:moveTo>
                <a:lnTo>
                  <a:pt x="169" y="168"/>
                </a:lnTo>
                <a:lnTo>
                  <a:pt x="169" y="0"/>
                </a:lnTo>
                <a:lnTo>
                  <a:pt x="0" y="0"/>
                </a:lnTo>
                <a:lnTo>
                  <a:pt x="0" y="168"/>
                </a:lnTo>
                <a:lnTo>
                  <a:pt x="0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4524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8964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16760" y="2782800"/>
            <a:ext cx="43164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727320" y="2782800"/>
            <a:ext cx="4302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011640" y="3352680"/>
            <a:ext cx="493560" cy="49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3914640"/>
            <a:ext cx="49356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72320" y="3914640"/>
            <a:ext cx="51264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775560" y="3956040"/>
            <a:ext cx="514080" cy="515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78360"/>
            <a:ext cx="493560" cy="493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6730560" y="4614480"/>
            <a:ext cx="179640" cy="368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73720" y="3654360"/>
            <a:ext cx="368280" cy="176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373720" y="4005360"/>
            <a:ext cx="371520" cy="172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56400" y="3914640"/>
            <a:ext cx="50976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3772080"/>
            <a:ext cx="266760" cy="26640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78920" y="316080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680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8920" y="428148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892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4104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Click To Preview"/>
          <p:cNvPicPr/>
          <p:nvPr/>
        </p:nvPicPr>
        <p:blipFill>
          <a:blip r:embed="rId1"/>
          <a:stretch/>
        </p:blipFill>
        <p:spPr>
          <a:xfrm>
            <a:off x="6934320" y="2286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Click To Preview"/>
          <p:cNvPicPr/>
          <p:nvPr/>
        </p:nvPicPr>
        <p:blipFill>
          <a:blip r:embed="rId2"/>
          <a:stretch/>
        </p:blipFill>
        <p:spPr>
          <a:xfrm>
            <a:off x="5867280" y="2286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Click To Preview"/>
          <p:cNvPicPr/>
          <p:nvPr/>
        </p:nvPicPr>
        <p:blipFill>
          <a:blip r:embed="rId3"/>
          <a:stretch/>
        </p:blipFill>
        <p:spPr>
          <a:xfrm>
            <a:off x="7848720" y="3581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Click To Preview"/>
          <p:cNvPicPr/>
          <p:nvPr/>
        </p:nvPicPr>
        <p:blipFill>
          <a:blip r:embed="rId4"/>
          <a:stretch/>
        </p:blipFill>
        <p:spPr>
          <a:xfrm>
            <a:off x="4876920" y="3276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Click To Preview"/>
          <p:cNvPicPr/>
          <p:nvPr/>
        </p:nvPicPr>
        <p:blipFill>
          <a:blip r:embed="rId5"/>
          <a:stretch/>
        </p:blipFill>
        <p:spPr>
          <a:xfrm>
            <a:off x="4876920" y="3886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Click To Preview"/>
          <p:cNvPicPr/>
          <p:nvPr/>
        </p:nvPicPr>
        <p:blipFill>
          <a:blip r:embed="rId6"/>
          <a:stretch/>
        </p:blipFill>
        <p:spPr>
          <a:xfrm>
            <a:off x="6629400" y="4876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4AFD5-147D-4BF1-B126-EF25B58C0D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114800" y="1905120"/>
            <a:ext cx="464832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38680" y="3048120"/>
            <a:ext cx="2209680" cy="1676160"/>
            <a:chOff x="5638680" y="3048120"/>
            <a:chExt cx="2209680" cy="1676160"/>
          </a:xfrm>
        </p:grpSpPr>
        <p:sp>
          <p:nvSpPr>
            <p:cNvPr id="110" name=""/>
            <p:cNvSpPr/>
            <p:nvPr/>
          </p:nvSpPr>
          <p:spPr>
            <a:xfrm>
              <a:off x="5638680" y="3434760"/>
              <a:ext cx="95544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96880" y="3048120"/>
              <a:ext cx="113472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15200" y="3176640"/>
              <a:ext cx="119448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13640" y="3628080"/>
              <a:ext cx="113472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95680" y="3950640"/>
              <a:ext cx="1015200" cy="773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58200" y="3756960"/>
              <a:ext cx="1015200" cy="709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581880" y="3220920"/>
            <a:ext cx="266760" cy="26856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6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02440" y="251460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81880" y="43480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60960" y="251460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8188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4760" y="498636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4043520"/>
            <a:ext cx="268560" cy="269640"/>
          </a:xfrm>
          <a:custGeom>
            <a:avLst/>
            <a:gdLst/>
            <a:ahLst/>
            <a:rect l="l" t="t" r="r" b="b"/>
            <a:pathLst>
              <a:path w="169" h="170">
                <a:moveTo>
                  <a:pt x="0" y="168"/>
                </a:moveTo>
                <a:lnTo>
                  <a:pt x="169" y="170"/>
                </a:lnTo>
                <a:lnTo>
                  <a:pt x="169" y="0"/>
                </a:lnTo>
                <a:lnTo>
                  <a:pt x="0" y="0"/>
                </a:lnTo>
                <a:lnTo>
                  <a:pt x="0" y="170"/>
                </a:lnTo>
                <a:lnTo>
                  <a:pt x="0" y="170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3522600"/>
            <a:ext cx="268560" cy="266760"/>
          </a:xfrm>
          <a:custGeom>
            <a:avLst/>
            <a:gdLst/>
            <a:ahLst/>
            <a:rect l="l" t="t" r="r" b="b"/>
            <a:pathLst>
              <a:path w="169" h="168">
                <a:moveTo>
                  <a:pt x="0" y="168"/>
                </a:moveTo>
                <a:lnTo>
                  <a:pt x="169" y="168"/>
                </a:lnTo>
                <a:lnTo>
                  <a:pt x="169" y="0"/>
                </a:lnTo>
                <a:lnTo>
                  <a:pt x="0" y="0"/>
                </a:lnTo>
                <a:lnTo>
                  <a:pt x="0" y="168"/>
                </a:lnTo>
                <a:lnTo>
                  <a:pt x="0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2120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6596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92720" y="2782800"/>
            <a:ext cx="4320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803640" y="2782800"/>
            <a:ext cx="4302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087960" y="3352680"/>
            <a:ext cx="493920" cy="49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7960" y="3914640"/>
            <a:ext cx="49392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8640" y="3914640"/>
            <a:ext cx="51264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851160" y="3956040"/>
            <a:ext cx="514440" cy="515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87960" y="3978360"/>
            <a:ext cx="493920" cy="493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6807240" y="4614480"/>
            <a:ext cx="179280" cy="368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50040" y="3654360"/>
            <a:ext cx="368280" cy="176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450040" y="4005360"/>
            <a:ext cx="371160" cy="172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32720" y="3914640"/>
            <a:ext cx="5094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77320" y="3772080"/>
            <a:ext cx="266760" cy="26640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5240" y="316080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312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5240" y="428148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524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1700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Click To Preview"/>
          <p:cNvPicPr/>
          <p:nvPr/>
        </p:nvPicPr>
        <p:blipFill>
          <a:blip r:embed="rId1"/>
          <a:stretch/>
        </p:blipFill>
        <p:spPr>
          <a:xfrm>
            <a:off x="5334120" y="4952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H="1">
            <a:off x="5257800" y="2743200"/>
            <a:ext cx="457200" cy="60948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2819520"/>
            <a:ext cx="304920" cy="99036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391520" y="4191120"/>
            <a:ext cx="838080" cy="9144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858000" y="2209680"/>
            <a:ext cx="1599840" cy="838440"/>
            <a:chOff x="6858000" y="2209680"/>
            <a:chExt cx="1599840" cy="838440"/>
          </a:xfrm>
        </p:grpSpPr>
        <p:sp>
          <p:nvSpPr>
            <p:cNvPr id="148" name=""/>
            <p:cNvSpPr/>
            <p:nvPr/>
          </p:nvSpPr>
          <p:spPr>
            <a:xfrm>
              <a:off x="6858000" y="2403000"/>
              <a:ext cx="691920" cy="322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17200" y="2209680"/>
              <a:ext cx="821520" cy="322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20320" y="2274120"/>
              <a:ext cx="864720" cy="4194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36320" y="2499840"/>
              <a:ext cx="821520" cy="4194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33560" y="2661120"/>
              <a:ext cx="735120" cy="3870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44400" y="2564280"/>
              <a:ext cx="735120" cy="354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876920" y="3962520"/>
            <a:ext cx="914040" cy="609120"/>
            <a:chOff x="4876920" y="3962520"/>
            <a:chExt cx="914040" cy="609120"/>
          </a:xfrm>
        </p:grpSpPr>
        <p:sp>
          <p:nvSpPr>
            <p:cNvPr id="155" name=""/>
            <p:cNvSpPr/>
            <p:nvPr/>
          </p:nvSpPr>
          <p:spPr>
            <a:xfrm>
              <a:off x="4876920" y="4102920"/>
              <a:ext cx="39528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24880" y="3962520"/>
              <a:ext cx="46944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98040" y="4009320"/>
              <a:ext cx="49428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21520" y="4173480"/>
              <a:ext cx="46944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48720" y="4290480"/>
              <a:ext cx="420120" cy="281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26240" y="4220280"/>
              <a:ext cx="420120" cy="257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876920" y="3276720"/>
            <a:ext cx="761760" cy="609120"/>
            <a:chOff x="4876920" y="3276720"/>
            <a:chExt cx="761760" cy="609120"/>
          </a:xfrm>
        </p:grpSpPr>
        <p:sp>
          <p:nvSpPr>
            <p:cNvPr id="162" name=""/>
            <p:cNvSpPr/>
            <p:nvPr/>
          </p:nvSpPr>
          <p:spPr>
            <a:xfrm>
              <a:off x="4876920" y="3417120"/>
              <a:ext cx="32940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00400" y="3276720"/>
              <a:ext cx="39132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44400" y="3323520"/>
              <a:ext cx="41184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47360" y="3487680"/>
              <a:ext cx="39132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3360" y="3604680"/>
              <a:ext cx="349920" cy="281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17960" y="3534480"/>
              <a:ext cx="349920" cy="257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 flipH="1">
            <a:off x="5943600" y="5257800"/>
            <a:ext cx="38088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876920" y="2590920"/>
            <a:ext cx="45720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Click To Preview"/>
          <p:cNvPicPr/>
          <p:nvPr/>
        </p:nvPicPr>
        <p:blipFill>
          <a:blip r:embed="rId2"/>
          <a:stretch/>
        </p:blipFill>
        <p:spPr>
          <a:xfrm>
            <a:off x="4343400" y="23623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Click To Preview"/>
          <p:cNvPicPr/>
          <p:nvPr/>
        </p:nvPicPr>
        <p:blipFill>
          <a:blip r:embed="rId3"/>
          <a:stretch/>
        </p:blipFill>
        <p:spPr>
          <a:xfrm>
            <a:off x="8077320" y="44956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534520" y="403848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181480" y="2133720"/>
            <a:ext cx="1599840" cy="837720"/>
            <a:chOff x="5181480" y="2133720"/>
            <a:chExt cx="1599840" cy="837720"/>
          </a:xfrm>
        </p:grpSpPr>
        <p:sp>
          <p:nvSpPr>
            <p:cNvPr id="174" name=""/>
            <p:cNvSpPr/>
            <p:nvPr/>
          </p:nvSpPr>
          <p:spPr>
            <a:xfrm>
              <a:off x="5181480" y="2327040"/>
              <a:ext cx="6919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40680" y="2133720"/>
              <a:ext cx="8215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43800" y="2197800"/>
              <a:ext cx="8647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9800" y="2423880"/>
              <a:ext cx="8215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57040" y="2584800"/>
              <a:ext cx="735120" cy="386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67880" y="2488320"/>
              <a:ext cx="735120" cy="354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172200" y="4800600"/>
            <a:ext cx="1599840" cy="837720"/>
            <a:chOff x="6172200" y="4800600"/>
            <a:chExt cx="1599840" cy="837720"/>
          </a:xfrm>
        </p:grpSpPr>
        <p:sp>
          <p:nvSpPr>
            <p:cNvPr id="181" name=""/>
            <p:cNvSpPr/>
            <p:nvPr/>
          </p:nvSpPr>
          <p:spPr>
            <a:xfrm>
              <a:off x="6172200" y="4993920"/>
              <a:ext cx="6919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31400" y="4800600"/>
              <a:ext cx="8215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34520" y="4864680"/>
              <a:ext cx="8647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50520" y="5090760"/>
              <a:ext cx="8215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47760" y="5251680"/>
              <a:ext cx="735120" cy="386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58600" y="5155200"/>
              <a:ext cx="735120" cy="354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924680" y="3657600"/>
            <a:ext cx="762120" cy="609120"/>
            <a:chOff x="7924680" y="3657600"/>
            <a:chExt cx="762120" cy="609120"/>
          </a:xfrm>
        </p:grpSpPr>
        <p:sp>
          <p:nvSpPr>
            <p:cNvPr id="188" name=""/>
            <p:cNvSpPr/>
            <p:nvPr/>
          </p:nvSpPr>
          <p:spPr>
            <a:xfrm>
              <a:off x="7924680" y="3798000"/>
              <a:ext cx="32940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48160" y="3657600"/>
              <a:ext cx="39132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92520" y="3704400"/>
              <a:ext cx="41184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95480" y="3868560"/>
              <a:ext cx="39132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51120" y="3985560"/>
              <a:ext cx="349920" cy="281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65720" y="3915360"/>
              <a:ext cx="349920" cy="257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Logical View of the Internet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352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P/OSPF not very scalabl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a hierarch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, ISP’s aren’t equ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necti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TRUE EITH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5640840" y="2286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77840" y="23623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56778-EF2E-4854-8A43-8A28090F39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Logical View of the Interne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208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r 1 I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ault-free” with global reachability inf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r 2 I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onal or country-w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r 3 I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4648320" y="1447920"/>
            <a:ext cx="403848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952880" y="3962520"/>
            <a:ext cx="1523880" cy="990360"/>
            <a:chOff x="4952880" y="3962520"/>
            <a:chExt cx="1523880" cy="990360"/>
          </a:xfrm>
        </p:grpSpPr>
        <p:sp>
          <p:nvSpPr>
            <p:cNvPr id="202" name=""/>
            <p:cNvSpPr/>
            <p:nvPr/>
          </p:nvSpPr>
          <p:spPr>
            <a:xfrm>
              <a:off x="4952880" y="4191120"/>
              <a:ext cx="65916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99840" y="3962520"/>
              <a:ext cx="78264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88200" y="4038480"/>
              <a:ext cx="82368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94120" y="4305240"/>
              <a:ext cx="78264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06120" y="4495680"/>
              <a:ext cx="700200" cy="457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35320" y="4381560"/>
              <a:ext cx="70020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257800" y="2362320"/>
            <a:ext cx="914040" cy="609120"/>
            <a:chOff x="5257800" y="2362320"/>
            <a:chExt cx="914040" cy="609120"/>
          </a:xfrm>
        </p:grpSpPr>
        <p:sp>
          <p:nvSpPr>
            <p:cNvPr id="209" name=""/>
            <p:cNvSpPr/>
            <p:nvPr/>
          </p:nvSpPr>
          <p:spPr>
            <a:xfrm>
              <a:off x="5257800" y="2502720"/>
              <a:ext cx="395280" cy="234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05760" y="2362320"/>
              <a:ext cx="469440" cy="234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78920" y="2409120"/>
              <a:ext cx="494280" cy="3049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02400" y="2573280"/>
              <a:ext cx="469440" cy="3049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29600" y="2690280"/>
              <a:ext cx="420120" cy="281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07120" y="2620080"/>
              <a:ext cx="420120" cy="2577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781680" y="3962520"/>
            <a:ext cx="1523880" cy="990360"/>
            <a:chOff x="6781680" y="3962520"/>
            <a:chExt cx="1523880" cy="990360"/>
          </a:xfrm>
        </p:grpSpPr>
        <p:sp>
          <p:nvSpPr>
            <p:cNvPr id="216" name=""/>
            <p:cNvSpPr/>
            <p:nvPr/>
          </p:nvSpPr>
          <p:spPr>
            <a:xfrm>
              <a:off x="6781680" y="4191120"/>
              <a:ext cx="65916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28640" y="3962520"/>
              <a:ext cx="78264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17000" y="4038480"/>
              <a:ext cx="82368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2920" y="4305240"/>
              <a:ext cx="78264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34920" y="4495680"/>
              <a:ext cx="700200" cy="457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64120" y="4381560"/>
              <a:ext cx="70020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095880" y="5105520"/>
            <a:ext cx="1371240" cy="685800"/>
            <a:chOff x="6095880" y="5105520"/>
            <a:chExt cx="1371240" cy="685800"/>
          </a:xfrm>
        </p:grpSpPr>
        <p:sp>
          <p:nvSpPr>
            <p:cNvPr id="223" name=""/>
            <p:cNvSpPr/>
            <p:nvPr/>
          </p:nvSpPr>
          <p:spPr>
            <a:xfrm>
              <a:off x="6095880" y="526356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18000" y="510552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77560" y="515808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62960" y="534276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03760" y="547488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70040" y="539568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952880" y="3200400"/>
            <a:ext cx="1371240" cy="685800"/>
            <a:chOff x="4952880" y="3200400"/>
            <a:chExt cx="1371240" cy="685800"/>
          </a:xfrm>
        </p:grpSpPr>
        <p:sp>
          <p:nvSpPr>
            <p:cNvPr id="230" name=""/>
            <p:cNvSpPr/>
            <p:nvPr/>
          </p:nvSpPr>
          <p:spPr>
            <a:xfrm>
              <a:off x="4952880" y="335844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75000" y="320040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34560" y="325296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19960" y="343764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60760" y="356976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27040" y="349056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934320" y="2743200"/>
            <a:ext cx="1371240" cy="685800"/>
            <a:chOff x="6934320" y="2743200"/>
            <a:chExt cx="1371240" cy="685800"/>
          </a:xfrm>
        </p:grpSpPr>
        <p:sp>
          <p:nvSpPr>
            <p:cNvPr id="237" name=""/>
            <p:cNvSpPr/>
            <p:nvPr/>
          </p:nvSpPr>
          <p:spPr>
            <a:xfrm>
              <a:off x="6934320" y="290124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56440" y="274320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16000" y="279576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01400" y="298044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42200" y="311256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08480" y="303336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154840" y="419112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09280" y="419112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85960" y="28954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76160" y="33526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19160" y="525780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82000" y="246384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Click To Preview"/>
          <p:cNvPicPr/>
          <p:nvPr/>
        </p:nvPicPr>
        <p:blipFill>
          <a:blip r:embed="rId1"/>
          <a:stretch/>
        </p:blipFill>
        <p:spPr>
          <a:xfrm>
            <a:off x="5334120" y="1600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Click To Preview"/>
          <p:cNvPicPr/>
          <p:nvPr/>
        </p:nvPicPr>
        <p:blipFill>
          <a:blip r:embed="rId2"/>
          <a:stretch/>
        </p:blipFill>
        <p:spPr>
          <a:xfrm>
            <a:off x="7391520" y="1600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715000" y="4952880"/>
            <a:ext cx="60948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7162560" y="4952880"/>
            <a:ext cx="22860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0120" y="3429000"/>
            <a:ext cx="75960" cy="60948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095520" y="2133720"/>
            <a:ext cx="1295640" cy="4572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2971800"/>
            <a:ext cx="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2209680"/>
            <a:ext cx="76320" cy="60984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38680" y="3809880"/>
            <a:ext cx="0" cy="15264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638680" y="2133360"/>
            <a:ext cx="7632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00800" y="3733920"/>
            <a:ext cx="0" cy="30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57360" y="350532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36480" y="3962520"/>
            <a:ext cx="79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Pro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2464F-F0C4-4B08-A004-658B86C54F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09480" y="1600200"/>
            <a:ext cx="777240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Transit vs. Peer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962520" y="3809880"/>
            <a:ext cx="1752480" cy="990720"/>
            <a:chOff x="3962520" y="3809880"/>
            <a:chExt cx="1752480" cy="990720"/>
          </a:xfrm>
        </p:grpSpPr>
        <p:sp>
          <p:nvSpPr>
            <p:cNvPr id="265" name=""/>
            <p:cNvSpPr/>
            <p:nvPr/>
          </p:nvSpPr>
          <p:spPr>
            <a:xfrm>
              <a:off x="3962520" y="4038480"/>
              <a:ext cx="75780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46560" y="3809880"/>
              <a:ext cx="90000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8120" y="3885840"/>
              <a:ext cx="94716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15000" y="4152600"/>
              <a:ext cx="90000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83440" y="4343400"/>
              <a:ext cx="804960" cy="457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7200" y="4228920"/>
              <a:ext cx="80496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447920" y="3809880"/>
            <a:ext cx="1371240" cy="685800"/>
            <a:chOff x="1447920" y="3809880"/>
            <a:chExt cx="1371240" cy="685800"/>
          </a:xfrm>
        </p:grpSpPr>
        <p:sp>
          <p:nvSpPr>
            <p:cNvPr id="272" name=""/>
            <p:cNvSpPr/>
            <p:nvPr/>
          </p:nvSpPr>
          <p:spPr>
            <a:xfrm>
              <a:off x="1447920" y="396792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70040" y="380988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29600" y="386244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15000" y="404712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55800" y="417924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22080" y="410004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858000" y="2133720"/>
            <a:ext cx="1371240" cy="685800"/>
            <a:chOff x="6858000" y="2133720"/>
            <a:chExt cx="1371240" cy="685800"/>
          </a:xfrm>
        </p:grpSpPr>
        <p:sp>
          <p:nvSpPr>
            <p:cNvPr id="279" name=""/>
            <p:cNvSpPr/>
            <p:nvPr/>
          </p:nvSpPr>
          <p:spPr>
            <a:xfrm>
              <a:off x="6858000" y="229176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80120" y="213372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339680" y="218628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25080" y="237096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65880" y="250308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32160" y="242388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4394520" y="403848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08920" y="228600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85600" y="3962520"/>
            <a:ext cx="76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Click To Preview"/>
          <p:cNvPicPr/>
          <p:nvPr/>
        </p:nvPicPr>
        <p:blipFill>
          <a:blip r:embed="rId1"/>
          <a:stretch/>
        </p:blipFill>
        <p:spPr>
          <a:xfrm>
            <a:off x="1752480" y="52578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Click To Preview"/>
          <p:cNvPicPr/>
          <p:nvPr/>
        </p:nvPicPr>
        <p:blipFill>
          <a:blip r:embed="rId2"/>
          <a:stretch/>
        </p:blipFill>
        <p:spPr>
          <a:xfrm>
            <a:off x="7238880" y="3505320"/>
            <a:ext cx="609840" cy="60948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3429000" y="1828800"/>
            <a:ext cx="2514600" cy="1523520"/>
            <a:chOff x="3429000" y="1828800"/>
            <a:chExt cx="2514600" cy="1523520"/>
          </a:xfrm>
        </p:grpSpPr>
        <p:sp>
          <p:nvSpPr>
            <p:cNvPr id="291" name=""/>
            <p:cNvSpPr/>
            <p:nvPr/>
          </p:nvSpPr>
          <p:spPr>
            <a:xfrm>
              <a:off x="3429000" y="2180160"/>
              <a:ext cx="1087200" cy="586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36520" y="1828800"/>
              <a:ext cx="1291320" cy="586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12440" y="1945800"/>
              <a:ext cx="1359000" cy="7621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52280" y="2356200"/>
              <a:ext cx="1291320" cy="7621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76720" y="2649240"/>
              <a:ext cx="1154880" cy="703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65080" y="2473200"/>
              <a:ext cx="1154880" cy="6447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4162320" y="22860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Click To Preview"/>
          <p:cNvPicPr/>
          <p:nvPr/>
        </p:nvPicPr>
        <p:blipFill>
          <a:blip r:embed="rId3"/>
          <a:stretch/>
        </p:blipFill>
        <p:spPr>
          <a:xfrm>
            <a:off x="1752480" y="2133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Click To Preview"/>
          <p:cNvPicPr/>
          <p:nvPr/>
        </p:nvPicPr>
        <p:blipFill>
          <a:blip r:embed="rId4"/>
          <a:stretch/>
        </p:blipFill>
        <p:spPr>
          <a:xfrm>
            <a:off x="3962520" y="5257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Click To Preview"/>
          <p:cNvPicPr/>
          <p:nvPr/>
        </p:nvPicPr>
        <p:blipFill>
          <a:blip r:embed="rId5"/>
          <a:stretch/>
        </p:blipFill>
        <p:spPr>
          <a:xfrm>
            <a:off x="5257800" y="52578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133720" y="4495680"/>
            <a:ext cx="0" cy="76212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133720" y="2971800"/>
            <a:ext cx="1295280" cy="76212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4724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429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1843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 1/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4876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43400" y="480060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86400" y="480060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895480" y="4267080"/>
            <a:ext cx="990720" cy="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96252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3800" y="289548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361960" y="2362320"/>
            <a:ext cx="990360" cy="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790960" y="2362320"/>
            <a:ext cx="990360" cy="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62720" y="1981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48520" y="2895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66880" y="4815000"/>
            <a:ext cx="20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0" y="335268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3429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2C69B-B0E6-4CC2-802B-C7EE65B5AA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C7D13-DF03-4800-9B10-CFC6CCC32D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hoic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nk state or distance vecto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universal metric – policy deci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distance-vecto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llman-Ford algorithm may not conver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link sta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ric used by routers not the same – lo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S database too large – entire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expose policies to other AS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49479-3D8F-46E3-986F-37EB8CD3DE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olution: Distance Vector with Pat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routing update carries the entire pa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ps are detected as follow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AS gets route check if AS already in 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es, reject ro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no, add self and (possibly) advertise route furt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antag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rics are local - AS chooses path, protocol ensures no lo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8D58B-6857-4B91-851C-6AEC68E8FA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connecting BGP Peer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uses TCP to connect pe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ifies BG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need for periodic refresh - routes are valid until withdrawn, or the connection is lo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mental upd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gestion control on a routing protoco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or interaction during high lo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FD401-9F2B-416E-AB08-812E3D41A9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op-by-hop Model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advertises to neighbors only those routes that it u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stent with the hop-by-hop Internet paradig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AS1 cannot tell AS2 to route to other AS’s in a manner different than what AS2 has chos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3EDE2-E62C-4491-A440-F2B99C9ECA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olicy with B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provides capability for enforcing various poli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icies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art of BGP: they are provided to BGP as configuration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enforces policies b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hoosing paths from multiple alternativ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trolling advertisement to other AS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F7D21-8535-4EEF-8D19-BAADEF4B73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6126E-C044-44A1-B565-F2E0353ECA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Examples of BGP Polici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ulti-homed AS refuses to act as trans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 path advertis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ulti-homed AS can become transit for some AS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advertise paths to some AS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S can favor or disfavor certain AS’s for traffic transit from itsel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CDBBF-4E9B-411C-B730-1F64E64930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80880" y="1600200"/>
            <a:ext cx="83822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Common Head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1219320" y="2590920"/>
            <a:ext cx="68580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19320" y="3809880"/>
            <a:ext cx="3276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 (2 by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5680" y="3809880"/>
            <a:ext cx="2057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(1 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956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432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530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37600" y="2173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0136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384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1124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13440" y="2894040"/>
            <a:ext cx="53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r (security and message deline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53120" y="5027760"/>
            <a:ext cx="77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s: OPEN, UPDATE, NOTIFICATION, KEEP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07938-61F5-4B5E-A8BA-159C5BBF0A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Messag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nounces AS 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s hold tim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val between keep_alive or update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ero interval implies no keep_al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_al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t periodically to ensure connectiv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t in place of an UPDATE mess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for error not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oses TCP connection immediately after not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2DFC5-14A2-44C5-B4D6-43EA1006B1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UPDATE Messag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 of withdrawn ro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twork layer reachability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of reachable prefix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h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r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prefixes advertised in message have same path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8DD32-3255-4513-A110-A4C144EDB9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ath Selection Criteri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ormation based on path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ributes + external (policy)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icy consider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ference for 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sence or absence of certain 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orig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dynam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D61A8-3741-4657-878D-B33659A6EF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OCAL PREF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194680" cy="53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l (within an AS) mechanism to provide relative priority among BGP rou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 rot="10800000">
            <a:off x="1066320" y="2285640"/>
            <a:ext cx="708660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81080" y="2895480"/>
            <a:ext cx="1143000" cy="838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48520" y="2895480"/>
            <a:ext cx="1143000" cy="838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38480" y="2514600"/>
            <a:ext cx="11430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4724280"/>
            <a:ext cx="5334120" cy="1295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62320" y="31240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29400" y="31240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62320" y="51055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9400" y="51055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819160" y="5410080"/>
            <a:ext cx="373356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742840" y="53341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81840" y="53481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-BG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66040" y="576432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2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01840" y="347832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14760" y="510552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cal Pref = 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46080" y="510552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cal Pref =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34400" y="347832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19720" y="26668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18720" y="312408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8168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743200" y="281952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00600" y="281952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CB17E-6DAC-404D-8A1D-851D4D07AC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LOCAL PREF – Common Us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ndle traffic directed to multi-homed transit custom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s provider to prefer a ro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ering vs. trans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er to use peering connection, wh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general, customer &gt; peer &gt; provi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LOCAL PREF to ensure th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96446-07E5-41AA-AD40-4CBB9FDE7A5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S_PAT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 of traversed AS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 rot="10800000">
            <a:off x="1066320" y="2285640"/>
            <a:ext cx="708660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362320" y="2362320"/>
            <a:ext cx="1828080" cy="1066320"/>
            <a:chOff x="2362320" y="2362320"/>
            <a:chExt cx="1828080" cy="1066320"/>
          </a:xfrm>
        </p:grpSpPr>
        <p:sp>
          <p:nvSpPr>
            <p:cNvPr id="384" name=""/>
            <p:cNvSpPr/>
            <p:nvPr/>
          </p:nvSpPr>
          <p:spPr>
            <a:xfrm>
              <a:off x="3389400" y="23846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2320" y="23623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62320" y="28933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54680" y="28933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638680" y="2362320"/>
            <a:ext cx="1828080" cy="1066320"/>
            <a:chOff x="5638680" y="2362320"/>
            <a:chExt cx="1828080" cy="1066320"/>
          </a:xfrm>
        </p:grpSpPr>
        <p:sp>
          <p:nvSpPr>
            <p:cNvPr id="389" name=""/>
            <p:cNvSpPr/>
            <p:nvPr/>
          </p:nvSpPr>
          <p:spPr>
            <a:xfrm>
              <a:off x="6665760" y="23846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8680" y="23623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638680" y="28933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31040" y="28933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362320" y="3733920"/>
            <a:ext cx="1828080" cy="1066320"/>
            <a:chOff x="2362320" y="3733920"/>
            <a:chExt cx="1828080" cy="1066320"/>
          </a:xfrm>
        </p:grpSpPr>
        <p:sp>
          <p:nvSpPr>
            <p:cNvPr id="394" name=""/>
            <p:cNvSpPr/>
            <p:nvPr/>
          </p:nvSpPr>
          <p:spPr>
            <a:xfrm>
              <a:off x="3389400" y="37562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62320" y="37339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62320" y="42649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54680" y="42649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362320" y="5105520"/>
            <a:ext cx="1828080" cy="1066320"/>
            <a:chOff x="2362320" y="5105520"/>
            <a:chExt cx="1828080" cy="1066320"/>
          </a:xfrm>
        </p:grpSpPr>
        <p:sp>
          <p:nvSpPr>
            <p:cNvPr id="399" name=""/>
            <p:cNvSpPr/>
            <p:nvPr/>
          </p:nvSpPr>
          <p:spPr>
            <a:xfrm>
              <a:off x="3389400" y="51278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2320" y="51055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2320" y="56365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54680" y="56365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2743200" y="5424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43200" y="4038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43200" y="2666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6668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029200" y="525780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0.10.0.0/16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00 200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0.10.0.0/16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00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343400" y="563868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3429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76720" y="480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28954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95240" y="29224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0.10.0.0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927400" y="29224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0.10.0.0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F2F92-6CBD-4632-9197-794429B66B7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80880" y="1600200"/>
            <a:ext cx="83822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IDR and B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27432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86200" y="2666880"/>
            <a:ext cx="213372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38862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77120" y="3505320"/>
            <a:ext cx="17524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05320" y="2971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19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12120" y="268920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7.8.2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12120" y="383220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7.8.3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152240" y="3222720"/>
            <a:ext cx="14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T (provid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7.8.0.0/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021080" y="360360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96840" y="5116680"/>
            <a:ext cx="33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should T announce to Z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943ED-A57C-43BF-80E0-BEA9C28AAAF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ptio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ertise all path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1: through T can reach 197.8.0.0/2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2: through T can reach 197.8.2.0/2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3: through T can reach 197.8.3.0/2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this does not reduce routing tables!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ould like to advertis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1: through T can reach 197.8.0.0/2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4FEDD-6923-465D-8503-AEECC4CD427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 Hierarchi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at routing doesn’t sca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cannot be expected to have routes to every destination (or destination networ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y obser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less information with increasing distance to destin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different approaches for rou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rea hierarch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andmark hierarchy (an alternativ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C2BE5-8CF2-4039-84C1-6236C4BD61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ets and Sequenc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167760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: what do we list in the rout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T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mitting information not accept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lead to lo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T, X, Y: misleading, appears as 3-hop 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ution: restructure AS Path attribute a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: (Sequence (T), Set (X, Y)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Z wants to advertise pat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th: (Sequence (Z, T), Set (X, Y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practice used only if paths in set have same attribu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7B224-1573-45C7-93A8-20445D703C5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-Exit Discriminator (MED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nt to external neighbors about which path into an AS to pref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-transitive attribute (we will see later wh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AS choose different sca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d when two AS’s connect to each other in more than one pl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67DCF-EBD7-4543-A109-DC5735EE50B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E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nt to R1 to use R3 over R4 lin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not compare AS40’s values to AS30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 rot="10800000">
            <a:off x="1066320" y="2819160"/>
            <a:ext cx="708660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81080" y="3048120"/>
            <a:ext cx="11430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248520" y="3048120"/>
            <a:ext cx="11430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57400" y="4876920"/>
            <a:ext cx="5334120" cy="1295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62320" y="32767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629400" y="32767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362320" y="525780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29400" y="525780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274284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062440" y="591660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64360" y="363060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19080" y="5029200"/>
            <a:ext cx="92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0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 = 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49480" y="5105520"/>
            <a:ext cx="92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0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 = 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530440" y="363060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01560" y="2971800"/>
            <a:ext cx="8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0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 =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3200040" y="35053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3200040" y="3962520"/>
            <a:ext cx="33526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14600" y="3809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0E702-ABD3-4234-A612-3F4EE050D44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3200400"/>
            <a:ext cx="838224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3809880"/>
            <a:ext cx="457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077320" y="44197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629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86880" y="4923000"/>
            <a:ext cx="500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1 ignores MED from IS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2 obeys MED from IS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2 ends up carrying traffic most of the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23880" y="3657600"/>
            <a:ext cx="6096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23880" y="4267080"/>
            <a:ext cx="6096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43000" y="39625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33720" y="4648320"/>
            <a:ext cx="57909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33720" y="403848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E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9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 used in peering or provider/subscriber scenari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lead to unfairness: may force an ISP to carry more traffic than its partn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1AA78-AC0B-4EC2-9EC5-D1BF05461A7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ther Attribut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rce of route (IGP, EGP, oth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ress of next hop router to u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FA894-EDFE-410B-8C5C-D710B90CD12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Decision Proces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ssing order of attribut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 route with highest LOCAL-PRE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 route with shortest AS-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y MED (if routes learned from same neighb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C399A-C22C-4A5E-B6DF-FAFE7732E94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F1C4C-6386-48F0-BFA3-2040B3C2F2B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80880" y="4267080"/>
            <a:ext cx="838224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23880" y="4495680"/>
            <a:ext cx="2590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34120" y="4572000"/>
            <a:ext cx="22860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51814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29000" y="49528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62720" y="49528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86000" y="4572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362320" y="54100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253760" y="46879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BG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602720" y="48769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938280" y="49528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al vs. External B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19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can be used by R3 and R4 to learn ro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R1 and R2 learn rout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on 1: Inject routes in IG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works for small routing tab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on 2: Use I-BG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07976-0601-4A43-9A75-035B1239789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al BGP (I-BGP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messages as E-BG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t rules about re-advertis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ix learned from E-BGP can be advertised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-BGP neighbor and vice-versa, bu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ix learned from one I-BGP neighbor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 advertised to another I-BGP neighb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son: no AS PATH within the same AS and thus danger of loop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1A84D-3DB9-4658-89B4-8A52D052B41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80880" y="4419720"/>
            <a:ext cx="838224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47720" y="4773600"/>
            <a:ext cx="2590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57960" y="4849920"/>
            <a:ext cx="22860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10040" y="54594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552840" y="5230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86560" y="5230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409840" y="4849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86160" y="5688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376160" y="501336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BG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867040" y="5078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943360" y="561132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08760" y="62326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-BG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3171960" y="58402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3171960" y="5230440"/>
            <a:ext cx="3045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 flipV="1">
            <a:off x="2104920" y="446832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485800" y="61452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9040" y="51814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014600" y="52578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al BGP (I-BGP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3 can tell R1 and R2 prefixes from R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3 can tell R4 prefixes from R1 and R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3 cannot tell R2 prefixes from R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 can only learn via a direct connection to R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: I-BGP routers must be fully connected (via TCP)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ast: E-BGP sessions usually map to physical lin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58869-7C30-496A-AA19-E25B3736179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rea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e network into are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as can have nested sub-ar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aint: no path between two sub-areas of an area can exit that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erarchically address nodes in a net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quentially number top-level ar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-areas of area are labeled relative to that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des are numbered relative to the smallest containing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06C90-0FD1-45A4-9456-F98185FEA4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ink Failur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types of link failur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lure on an E-BGP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lure on an I-BGP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failures are treated completely different in BG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56406-A73D-4894-AD47-F0C28131C83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80880" y="3657600"/>
            <a:ext cx="8382240" cy="28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19320" y="3962520"/>
            <a:ext cx="213336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95480" y="4572000"/>
            <a:ext cx="3812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638680" y="3962520"/>
            <a:ext cx="213372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15000" y="457200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276720" y="48006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76720" y="46483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732120" y="492300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656520" y="4237200"/>
            <a:ext cx="17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BGP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06080" y="560880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8.39.1.1/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54200" y="560880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8.39.1.2/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5638320" y="487656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276720" y="487656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4314240" y="4640400"/>
            <a:ext cx="235800" cy="309960"/>
            <a:chOff x="4314240" y="4640400"/>
            <a:chExt cx="235800" cy="309960"/>
          </a:xfrm>
        </p:grpSpPr>
        <p:sp>
          <p:nvSpPr>
            <p:cNvPr id="525" name=""/>
            <p:cNvSpPr/>
            <p:nvPr/>
          </p:nvSpPr>
          <p:spPr>
            <a:xfrm flipV="1">
              <a:off x="4314240" y="4645440"/>
              <a:ext cx="235800" cy="299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flipV="1">
              <a:off x="4321080" y="4640400"/>
              <a:ext cx="221400" cy="309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ailure of an E-BGP Link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link R1-R2 goes 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CP connection brea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GP routes are remov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esi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havi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72CBD-00DD-4FC2-919E-7D4CF502F02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380880" y="3962520"/>
            <a:ext cx="83822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438280" y="4114800"/>
            <a:ext cx="3810240" cy="220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43200" y="51814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41911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486400" y="51814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548640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048120" y="4495320"/>
            <a:ext cx="10666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95680" y="4495680"/>
            <a:ext cx="10670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24080" y="5356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 flipV="1">
            <a:off x="4419360" y="457164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3124080" y="45716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03720" y="431316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4952520" y="4495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121560" y="553248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-BGP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426708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753200" y="4898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.1/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743920" y="4213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.2/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391200" y="4653000"/>
            <a:ext cx="380880" cy="370080"/>
            <a:chOff x="3391200" y="4653000"/>
            <a:chExt cx="380880" cy="370080"/>
          </a:xfrm>
        </p:grpSpPr>
        <p:sp>
          <p:nvSpPr>
            <p:cNvPr id="547" name=""/>
            <p:cNvSpPr/>
            <p:nvPr/>
          </p:nvSpPr>
          <p:spPr>
            <a:xfrm flipV="1">
              <a:off x="3391200" y="4830480"/>
              <a:ext cx="380880" cy="15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3535560" y="4653000"/>
              <a:ext cx="91440" cy="370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ailure on an I-BGP Link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R1-R2 down =&gt; R1 and R2 can still exchange traffic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direct path through R3 must be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BGP and I-BGP use different conventions with respect to TCP endpoi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-BGP: no multihop -- I-BGP: multihop O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8E7DA-8AD5-421B-962A-587E8089DE1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-Ho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bility Iss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463EB-05A7-4914-98B4-3337215EB9D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-hom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ulti-hom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has several connections to the Interne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roves reliability and performan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accommodate link fail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ndwidth is sum of links to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ting policy right (MED, etc.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F7598-B23A-4BB5-9340-B6D0743014C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-homing to Multiple Provider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6576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jor issu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stomer address spa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gated by IS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gated by IS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gated by ISP1 and IS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tained independent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159FD-DED0-465F-8B23-CB981C239B5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ddress Space from one IS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4419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stomer uses address space from IS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advertises /16 aggreg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stomer advertises /24 route to IS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2 relays route to ISP1 and ISP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2-3 use /24 rou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routes direct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blems with traffic load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"/>
          <p:cNvSpPr/>
          <p:nvPr/>
        </p:nvSpPr>
        <p:spPr>
          <a:xfrm>
            <a:off x="4919400" y="281772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75960" y="518004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543800" y="2819520"/>
            <a:ext cx="5335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7620120" y="4114800"/>
            <a:ext cx="4572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562720" y="4114800"/>
            <a:ext cx="5331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D84DC-3111-4311-938D-6BEF88736BD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itfall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aggregates to a /19 at border router to reduce internal tab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still announces /1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hears /24 from ISP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routes packets for customer to ISP2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around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u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ject /24 in I-BG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6477120" y="342900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75760" y="426564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0/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5029200" y="38858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19400" y="281772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543800" y="2819520"/>
            <a:ext cx="5335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7620120" y="4114800"/>
            <a:ext cx="4572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75960" y="518004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1D10C-78BE-413D-BAEF-72155BF29E3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ddress Space from Both ISP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and ISP2 continue to announce aggrega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ad sharing depends on traffic to two prefix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ck of reliability: if ISP1 link goes down, part of customer becomes inaccessib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stomer may announce prefixes to both ISPs, but still problems with longest match as in case 1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"/>
          <p:cNvSpPr/>
          <p:nvPr/>
        </p:nvSpPr>
        <p:spPr>
          <a:xfrm>
            <a:off x="5156640" y="446256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518960" y="441792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4.70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66393-B90A-4B29-89B9-F0B1DCB0A33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dependent Address Spac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179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fers the most control, but at the cost of aggreg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ll need to control path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ISP’s ignore advertisements of less than /1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59355-E886-4E77-A2B5-72CACC43981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C6023-16C8-4285-9B9F-BFC2464364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-Ho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bility Iss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76994-4C8C-4CCB-A1AE-672F1C4A8B6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igns of Routing Instabilit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itored BGP messages at major excha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s of magnitude more updates than expec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lk: duplicate withdraw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less implementation of BGP – did not keep track of information passed to pe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act of few implemen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ong frequency (30/60 sec) compon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action with other local routing/links etc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0100A-7888-45BC-9949-DB01C76254B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e Flap Stor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45820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loaded routers fail to send Keep_Alive message and marked as 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-BGP peers find alternate path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loaded router re-establishes peering ses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t send large updat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reased load causes more routers to fail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4B925-C50F-4FD7-8863-83E520B9234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e Flap Dampen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ers now give higher priority to BGP/Keep_Alive to avoid 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ociate a penalty with each ro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e when route fla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onentially decay penalty with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penalty reaches threshold, suppress ro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1EACA-3F72-41A5-A9E5-5AA22BF046C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34308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101480" y="373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674600" y="2286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R,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350760" y="487692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*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092960" y="487692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1R,*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5DC97-7E07-4DD8-BC56-717AE8E8E97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34308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50560" y="24526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436360" y="49528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R,-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00880" y="50292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R,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267080" y="304776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3048120" y="4191120"/>
            <a:ext cx="7617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648320" y="4114800"/>
            <a:ext cx="8380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267080" y="32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52880" y="3962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20040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3992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2572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2512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22160" y="245268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R,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960600" y="495288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*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59800" y="50292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1R,*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0FFAD-E639-48ED-9CF3-E240E5DC56C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896720" y="24382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41728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31400" y="50292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01R,*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14600" y="34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666880" y="2819520"/>
            <a:ext cx="106704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876920" y="2819520"/>
            <a:ext cx="99036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91588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24780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64880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198480" y="24382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96920" y="49528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R,-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5760" y="50292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R,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11E37-5471-456C-8556-73492419201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25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801320" y="24382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9360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2952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10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4864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 flipV="1">
            <a:off x="4876560" y="2819160"/>
            <a:ext cx="99036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9625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61132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2412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57248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887080" y="24526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56028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07160" y="50292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1R,*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371E8-BD51-415E-86F8-F528AABD181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56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7640" y="24526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563440" y="49528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356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12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362320" y="3443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2666880" y="2819160"/>
            <a:ext cx="106704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962520" y="5029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43960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52572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49652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722200" y="24382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78888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8504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1R,10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BF98D-3201-44EA-AB75-2F11D4AB5EA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7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33360" y="24382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2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42376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071080" y="50436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4864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 flipV="1">
            <a:off x="4876560" y="2819160"/>
            <a:ext cx="99036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9625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86692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41916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82808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255720" y="24382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79536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4684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1R,10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0C664-8690-424B-B51C-34E3F0A7D8B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’s Area Hierarch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utonomous Syste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AS)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et of routers under a single technical administration, using an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interior gateway protocol (IGP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common metrics to route packets within the AS and using an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xterior gateway protocol (EGP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route packets to other AS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AS assigned unique 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’s peer at network excha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DB069-E1E7-4DDB-ADBD-783DC860AA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18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890240" y="25290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2R,21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39760" y="50436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988640" y="50436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14600" y="34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2666880" y="2819160"/>
            <a:ext cx="106704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490800" y="25290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*12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56676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9488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1R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171480" y="2529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17148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72512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5E032-4B0A-4B3D-AF86-D3B33902B24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possible explore every possible path through networ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n-1)! Combin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 between update messages (MinRouteAdver) reduces explo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ces router to process all outstanding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 Internet failover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w/shorter li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60 seco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s in simple replacement at n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wn li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80 seco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s in search of possible op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nger li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20 seco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s in replacement or search based on leng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7AAEF-BC18-45B1-9F7A-9367FE761DF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8041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in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has routes to every other n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side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has routes for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other top-level areas on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 Inter-area packets to nearest appropriate border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result in sub-optimal path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4CEAA-82C6-4E0D-BE6E-06AF2A6B43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istory: I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760" y="157140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common IGP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P: Routing Information Protoco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v1: 1988, v2: 199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SPF: Open Shortest Path Fir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988 - 1998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S-IS: Intermediate system to intermediate system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(mid to end 90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RP: 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Enhance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ior Gateway Routing Protocol (Cisco proprietary, mid-80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201C7-A68B-4BF9-BF03-9BF01974E0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istory: E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d-80s: EG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hability protocol (no shortest path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d not accommodate cycles (tree topolog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olved when all networks connected to NSF backb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: BGP introduced as routing protoc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test version = BGP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GP-4 supports CID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mary objective: connectivity not perform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21A58-5C2A-48F6-9A7C-C1F2BF26C5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Anja Feldmann</dc:creator>
  <dc:description/>
  <dc:language>en-US</dc:language>
  <cp:lastModifiedBy>anja</cp:lastModifiedBy>
  <dcterms:modified xsi:type="dcterms:W3CDTF">2004-01-08T13:00:27Z</dcterms:modified>
  <cp:revision>199</cp:revision>
  <dc:subject/>
  <dc:title>Part I: Introduction</dc:title>
</cp:coreProperties>
</file>